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DEE-3CD9-4763-87C9-CB8C9210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741-09D7-4448-80B7-FBABB1F6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D99-4611-413F-B019-4EB01FC1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94D-625A-40E6-8D3B-65242F4F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1E4-A2E1-4E60-9EEC-86F2037B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6C6-4C3C-4367-9239-752407A0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80E-CFFA-405C-82FB-87F47224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F3C-4349-4F10-99CD-6D58E98D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AF1-3F5E-4CCF-9A22-DF88E019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F8F-605B-4D65-9FA5-B1113563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F4D-0107-4C80-BA51-0C64B6C3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C5E-7C1A-4F94-8CB8-4FBF688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8A30-A37B-4962-92F9-069FC178D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formation &amp; Publicity: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Obiettivi e strumen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talian National Contact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ezia, 23 marzo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59056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1500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nario di supporto ai progetti in chiu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cuni suggerimenti pratici per informare e promuovere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274284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dividere l’elaborazione dei messaggi chiave del progetto (max.3) con tutti i part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finire un piano di comunicazione annuale condiviso fra tutti i partners 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pliciti i vostri obiettivi, i target group e INDICATORI di risulta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struire un database efficiente per comunicazioni e news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tilizzare immagini eloquenti e non standardizzate che descrivano temi e proble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fferenziare il messaggio utilizzando mappe, testi e adattandolo sempre ai vostr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locutor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lezionare gli opinion leaders del settore coinvolgendoli nelle attività del proget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 risultati dell’indagine conoscitiva sui Lead Partner itali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28954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’indagine ha avuto come obiettivo la rilevazione delle azioni di coordinamento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rso o ipotizzate fra i progetti guidati da Lead Partner italiani, iscritti  non a Stres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levando le seguenti attiv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zioni di comunicazione e diffusione dei risultati già attuate singolarmente da ciascun progett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llaborazioni con altri progetti realizzate o previste e per le quali è stato comunque espresso un interess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ipologia di attività realizzata o previs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pporto richiesto al Program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49568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tesi dei principali 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297180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51460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46483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 progetti con Lead Partner italiani hanno sviluppato, generalmente, strumenti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unicazione tradizionali (sito web, newsletter, comunicati stampa) nell’ambito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WP dedic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e attività di networking con altri progetti sono limitate ed occasiona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tevoli potenzialità di interazione con progetti promossi a livello locale e a valere 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ltri programmi comunit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re attenzione al follow up rispetto all’I&amp;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tenuti: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ganizzazione del progetto in aree funzional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obblighi del Regolament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biettivi delle attività di I&amp;P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ultati attesi e attività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definizione e i contenuti del nostro messaggi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suggerimenti pratici per “informare e promuovere”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risultati dell’indagine conoscitiva del NCP italiano</a:t>
            </a: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zazione del progetto in aree fun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320004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estione delle attività del prog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pianificazione attività, adempimenti amministrativi, progress report, coordinamento con i PP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mministrazione del budge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pagamenti, rendicontazioni e certificazio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tion &amp; Publ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 Attività di I&amp;P: Obblighi del Regolamento 1159/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920" y="29714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i cartacei, audio-visivi ed elettron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dicare chiaramente, nella prima pagina, il contributo dell‘Unione Europea e il Fond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Utilizzare allo stesso livello la bandiera UE se si inserisce lo stemma nazionale 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regionale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serire il logo del Programma Spazio Alpi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dicare nella pubblicazione dove reperire informazioni sul Program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Prevedere la bandiera europea nelle sale di riuni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serire il logo dell‘Unione nei documenti (inviti, agenda in particola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6705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Obiettivi delle attività di I&amp;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28954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involgimento dei target group sulle tematiche affrontate dal progetto a livello transn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divisione dei risultati attesi e/o ottenuti dal progetto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ultati atte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umento della consapevolezza dell’importanza dei risultati previsti e/o raggiunti 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ogetto a livello transnazionale presso i decision m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orizzare le competenze del partenariato informando efficacemente il pubblico sulle finalità e gli strumenti adot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e il nostro “messaggi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re l’universo dei target groups a cui ci rivolgia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ruire l’immagine e la visibilità del progetto (logo, brochure, accesso ai canali di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zi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e gli strumenti più adatti di comunicazione, quando e come utilizzarli in u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ano di I&amp;P che ne consenta il monitoraggio sistema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obiettivi del “messagg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266688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. Definire qual è il nostro targe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 Identificare i nostri obiettivi specif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scitare att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vincere le persone a supportare una nuova inizi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ttenere maggiori finanzia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biare l’opinione pub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biare le politiche pubbliche su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biare comportamenti e abitu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struire legami fra gli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7848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re il nostro “messagg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61760" y="23619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messaggio è l’insieme degli elementi essenziali del no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getto che vogliamo comunicare al nostr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nostri strumenti per diffonderlo s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ocumenti del progetto: brochure, volantini, post cards, ec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to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lloqui con le persone interess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viste con i giornali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ws e newsl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minari e confer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esentazione di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viluppo relazioni con altri 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58000" y="5029200"/>
            <a:ext cx="1752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a includere nel “messagg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sa faccia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ché lo faccia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abbiamo deciso di oper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questo darà benefici al territorio?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ché le persone dovrebbero essere interessat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B: Il messaggio non è uno slogan ad 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logan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okia. Connecting people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okia is dedicated to enhancing people’s lives and productivity by providing easy-to-use and secure products like mobile phones and solutions for imaging, games, media, mobile network operators and busi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. infrastrutture</cp:lastModifiedBy>
  <dcterms:modified xsi:type="dcterms:W3CDTF">2007-02-28T15:39:4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