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DD4-0766-41C4-8F02-1D8D3642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104-6DAD-420B-8BB3-92A38815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F8D-33A1-4C2C-903F-7C3E287B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26F-C3E8-4AF3-BF40-C7443265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D3C-259E-43ED-99FA-60B729F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C63-A450-444E-939A-A6F1B1E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FA7-D12A-4C79-AE7F-EE123977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B88-A629-4220-A27C-067D1FC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784-EB1D-485F-88D7-B81BD225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58C-1441-4899-B86A-11EC06C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DFE-4AB2-44CC-84DF-F76FF62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8FB-BF0A-457E-BD22-35EEF2D8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9A58-9983-4B2A-B1AF-ACD42EA75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2276640"/>
            <a:ext cx="65736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Italian participation i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U Community Initiativ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lpine Space: Results and perspectiv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685800" cy="73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08360" y="170028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5373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ezia, 23 marzo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549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alian partners by ti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26920" y="979560"/>
          <a:ext cx="8856720" cy="587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979560"/>
                    <a:ext cx="885672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468360" y="0"/>
          <a:ext cx="943272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9432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971640" y="549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alian partners by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71640" y="5493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ancial participation by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341360"/>
          <a:ext cx="8569080" cy="533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341360"/>
                    <a:ext cx="856908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5415120" cy="377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2421000"/>
            <a:ext cx="2514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untrie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roject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18.000.000 €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ior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797360"/>
            <a:ext cx="8034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patial planning and competitive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motion of sustainable transpo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motion of cultural and natural heritage and prevention of natural catastrop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87280" y="83664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alian financial particip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RDF and Fondo di Ro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1700280"/>
            <a:ext cx="7315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aly is participating to the Programme f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jects, with more than 44,6 Meuro (ERDF + national co-fundi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alian partners will manage by 2008 almost 50 Meuro (ERDF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ional co-fun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 the whole Italy has optimized the employment of the Fondo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tazione using ERDF funds b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03280" y="3933720"/>
          <a:ext cx="7564680" cy="313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3933720"/>
                    <a:ext cx="75646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47640" y="907920"/>
            <a:ext cx="66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ority 1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tial planning and competitivenes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1989000"/>
            <a:ext cx="690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    Mutual knowledge and common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    Competitiveness and sustainabl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005360"/>
            <a:ext cx="69087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2852640"/>
            <a:ext cx="72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5 approved projects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which in progress, for a total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 more than 44 millions euro. Italy h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2 Lea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0920" y="3429000"/>
          <a:ext cx="6096240" cy="321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3429000"/>
                    <a:ext cx="60962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1052640"/>
            <a:ext cx="748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ority  2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motion of sustainable transport systems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1989000"/>
            <a:ext cx="766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 Perspectives an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  Improvement of existing and promotion of future transport systems by large scale and small scale intelligent solutions such as intermod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141720"/>
            <a:ext cx="8028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851760" indent="-4586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 approved projects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which in progress, for a total budget of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 millions euro. Italy h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 Lea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08000" y="3716280"/>
          <a:ext cx="6096240" cy="30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716280"/>
                    <a:ext cx="60962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76360" y="9810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ority 3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vironment and cultural heri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84464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 Nature and resources, in particular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 Good management and promotion of landscapes and cultural heri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 Cooperation in the field of natural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314172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lvl="1" marL="643680" indent="-3466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4 projects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which in progress, for a total budget of 42 millions eu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3680" indent="-3466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aly h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 Lea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35280" y="3619440"/>
          <a:ext cx="6159240" cy="323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619440"/>
                    <a:ext cx="615924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836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of Partners per coun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93840" y="1484280"/>
            <a:ext cx="78501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021400" y="715320"/>
            <a:ext cx="5921640" cy="4369320"/>
            <a:chOff x="2021400" y="715320"/>
            <a:chExt cx="5921640" cy="4369320"/>
          </a:xfrm>
        </p:grpSpPr>
        <p:sp>
          <p:nvSpPr>
            <p:cNvPr id="95" name=""/>
            <p:cNvSpPr/>
            <p:nvPr/>
          </p:nvSpPr>
          <p:spPr>
            <a:xfrm>
              <a:off x="3003480" y="3882240"/>
              <a:ext cx="509040" cy="994680"/>
            </a:xfrm>
            <a:custGeom>
              <a:avLst/>
              <a:gdLst/>
              <a:ahLst/>
              <a:rect l="l" t="t" r="r" b="b"/>
              <a:pathLst>
                <a:path w="309" h="536">
                  <a:moveTo>
                    <a:pt x="309" y="210"/>
                  </a:moveTo>
                  <a:lnTo>
                    <a:pt x="309" y="210"/>
                  </a:lnTo>
                  <a:lnTo>
                    <a:pt x="295" y="206"/>
                  </a:lnTo>
                  <a:lnTo>
                    <a:pt x="295" y="206"/>
                  </a:lnTo>
                  <a:lnTo>
                    <a:pt x="295" y="206"/>
                  </a:lnTo>
                  <a:lnTo>
                    <a:pt x="282" y="201"/>
                  </a:lnTo>
                  <a:lnTo>
                    <a:pt x="282" y="201"/>
                  </a:lnTo>
                  <a:lnTo>
                    <a:pt x="282" y="201"/>
                  </a:lnTo>
                  <a:lnTo>
                    <a:pt x="269" y="198"/>
                  </a:lnTo>
                  <a:lnTo>
                    <a:pt x="269" y="198"/>
                  </a:lnTo>
                  <a:lnTo>
                    <a:pt x="269" y="198"/>
                  </a:lnTo>
                  <a:lnTo>
                    <a:pt x="256" y="193"/>
                  </a:lnTo>
                  <a:lnTo>
                    <a:pt x="256" y="193"/>
                  </a:lnTo>
                  <a:lnTo>
                    <a:pt x="256" y="193"/>
                  </a:lnTo>
                  <a:lnTo>
                    <a:pt x="243" y="189"/>
                  </a:lnTo>
                  <a:lnTo>
                    <a:pt x="243" y="189"/>
                  </a:lnTo>
                  <a:lnTo>
                    <a:pt x="243" y="189"/>
                  </a:lnTo>
                  <a:lnTo>
                    <a:pt x="231" y="185"/>
                  </a:lnTo>
                  <a:lnTo>
                    <a:pt x="231" y="185"/>
                  </a:lnTo>
                  <a:lnTo>
                    <a:pt x="231" y="185"/>
                  </a:lnTo>
                  <a:lnTo>
                    <a:pt x="219" y="181"/>
                  </a:lnTo>
                  <a:lnTo>
                    <a:pt x="219" y="181"/>
                  </a:lnTo>
                  <a:lnTo>
                    <a:pt x="219" y="181"/>
                  </a:lnTo>
                  <a:lnTo>
                    <a:pt x="208" y="176"/>
                  </a:lnTo>
                  <a:lnTo>
                    <a:pt x="208" y="176"/>
                  </a:lnTo>
                  <a:lnTo>
                    <a:pt x="208" y="176"/>
                  </a:lnTo>
                  <a:lnTo>
                    <a:pt x="196" y="172"/>
                  </a:lnTo>
                  <a:lnTo>
                    <a:pt x="196" y="172"/>
                  </a:lnTo>
                  <a:lnTo>
                    <a:pt x="196" y="172"/>
                  </a:lnTo>
                  <a:lnTo>
                    <a:pt x="185" y="167"/>
                  </a:lnTo>
                  <a:lnTo>
                    <a:pt x="185" y="167"/>
                  </a:lnTo>
                  <a:lnTo>
                    <a:pt x="185" y="167"/>
                  </a:lnTo>
                  <a:lnTo>
                    <a:pt x="174" y="163"/>
                  </a:lnTo>
                  <a:lnTo>
                    <a:pt x="174" y="163"/>
                  </a:lnTo>
                  <a:lnTo>
                    <a:pt x="174" y="163"/>
                  </a:lnTo>
                  <a:lnTo>
                    <a:pt x="164" y="158"/>
                  </a:lnTo>
                  <a:lnTo>
                    <a:pt x="164" y="158"/>
                  </a:lnTo>
                  <a:lnTo>
                    <a:pt x="164" y="158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44" y="149"/>
                  </a:lnTo>
                  <a:lnTo>
                    <a:pt x="144" y="149"/>
                  </a:lnTo>
                  <a:lnTo>
                    <a:pt x="144" y="149"/>
                  </a:lnTo>
                  <a:lnTo>
                    <a:pt x="134" y="144"/>
                  </a:lnTo>
                  <a:lnTo>
                    <a:pt x="134" y="144"/>
                  </a:lnTo>
                  <a:lnTo>
                    <a:pt x="134" y="144"/>
                  </a:lnTo>
                  <a:lnTo>
                    <a:pt x="125" y="140"/>
                  </a:lnTo>
                  <a:lnTo>
                    <a:pt x="125" y="140"/>
                  </a:lnTo>
                  <a:lnTo>
                    <a:pt x="125" y="140"/>
                  </a:lnTo>
                  <a:lnTo>
                    <a:pt x="116" y="135"/>
                  </a:lnTo>
                  <a:lnTo>
                    <a:pt x="116" y="135"/>
                  </a:lnTo>
                  <a:lnTo>
                    <a:pt x="116" y="135"/>
                  </a:lnTo>
                  <a:lnTo>
                    <a:pt x="107" y="130"/>
                  </a:lnTo>
                  <a:lnTo>
                    <a:pt x="107" y="130"/>
                  </a:lnTo>
                  <a:lnTo>
                    <a:pt x="107" y="130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1" y="120"/>
                  </a:lnTo>
                  <a:lnTo>
                    <a:pt x="91" y="120"/>
                  </a:lnTo>
                  <a:lnTo>
                    <a:pt x="91" y="120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69" y="105"/>
                  </a:lnTo>
                  <a:lnTo>
                    <a:pt x="69" y="105"/>
                  </a:lnTo>
                  <a:lnTo>
                    <a:pt x="69" y="105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39" y="80"/>
                  </a:lnTo>
                  <a:lnTo>
                    <a:pt x="39" y="80"/>
                  </a:lnTo>
                  <a:lnTo>
                    <a:pt x="39" y="80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1" y="343"/>
                  </a:lnTo>
                  <a:lnTo>
                    <a:pt x="1" y="343"/>
                  </a:lnTo>
                  <a:lnTo>
                    <a:pt x="1" y="343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4" y="353"/>
                  </a:lnTo>
                  <a:lnTo>
                    <a:pt x="4" y="353"/>
                  </a:lnTo>
                  <a:lnTo>
                    <a:pt x="4" y="353"/>
                  </a:lnTo>
                  <a:lnTo>
                    <a:pt x="6" y="359"/>
                  </a:lnTo>
                  <a:lnTo>
                    <a:pt x="6" y="359"/>
                  </a:lnTo>
                  <a:lnTo>
                    <a:pt x="6" y="359"/>
                  </a:lnTo>
                  <a:lnTo>
                    <a:pt x="8" y="364"/>
                  </a:lnTo>
                  <a:lnTo>
                    <a:pt x="8" y="364"/>
                  </a:lnTo>
                  <a:lnTo>
                    <a:pt x="8" y="364"/>
                  </a:lnTo>
                  <a:lnTo>
                    <a:pt x="10" y="370"/>
                  </a:lnTo>
                  <a:lnTo>
                    <a:pt x="10" y="370"/>
                  </a:lnTo>
                  <a:lnTo>
                    <a:pt x="10" y="370"/>
                  </a:lnTo>
                  <a:lnTo>
                    <a:pt x="14" y="375"/>
                  </a:lnTo>
                  <a:lnTo>
                    <a:pt x="14" y="375"/>
                  </a:lnTo>
                  <a:lnTo>
                    <a:pt x="14" y="375"/>
                  </a:lnTo>
                  <a:lnTo>
                    <a:pt x="17" y="380"/>
                  </a:lnTo>
                  <a:lnTo>
                    <a:pt x="17" y="380"/>
                  </a:lnTo>
                  <a:lnTo>
                    <a:pt x="17" y="380"/>
                  </a:lnTo>
                  <a:lnTo>
                    <a:pt x="20" y="386"/>
                  </a:lnTo>
                  <a:lnTo>
                    <a:pt x="20" y="386"/>
                  </a:lnTo>
                  <a:lnTo>
                    <a:pt x="20" y="386"/>
                  </a:lnTo>
                  <a:lnTo>
                    <a:pt x="25" y="390"/>
                  </a:lnTo>
                  <a:lnTo>
                    <a:pt x="25" y="390"/>
                  </a:lnTo>
                  <a:lnTo>
                    <a:pt x="25" y="390"/>
                  </a:lnTo>
                  <a:lnTo>
                    <a:pt x="29" y="396"/>
                  </a:lnTo>
                  <a:lnTo>
                    <a:pt x="29" y="396"/>
                  </a:lnTo>
                  <a:lnTo>
                    <a:pt x="29" y="396"/>
                  </a:lnTo>
                  <a:lnTo>
                    <a:pt x="34" y="401"/>
                  </a:lnTo>
                  <a:lnTo>
                    <a:pt x="34" y="401"/>
                  </a:lnTo>
                  <a:lnTo>
                    <a:pt x="34" y="401"/>
                  </a:lnTo>
                  <a:lnTo>
                    <a:pt x="39" y="406"/>
                  </a:lnTo>
                  <a:lnTo>
                    <a:pt x="39" y="406"/>
                  </a:lnTo>
                  <a:lnTo>
                    <a:pt x="39" y="406"/>
                  </a:lnTo>
                  <a:lnTo>
                    <a:pt x="44" y="411"/>
                  </a:lnTo>
                  <a:lnTo>
                    <a:pt x="44" y="411"/>
                  </a:lnTo>
                  <a:lnTo>
                    <a:pt x="44" y="411"/>
                  </a:lnTo>
                  <a:lnTo>
                    <a:pt x="50" y="416"/>
                  </a:lnTo>
                  <a:lnTo>
                    <a:pt x="50" y="416"/>
                  </a:lnTo>
                  <a:lnTo>
                    <a:pt x="50" y="416"/>
                  </a:lnTo>
                  <a:lnTo>
                    <a:pt x="56" y="422"/>
                  </a:lnTo>
                  <a:lnTo>
                    <a:pt x="56" y="422"/>
                  </a:lnTo>
                  <a:lnTo>
                    <a:pt x="56" y="422"/>
                  </a:lnTo>
                  <a:lnTo>
                    <a:pt x="62" y="427"/>
                  </a:lnTo>
                  <a:lnTo>
                    <a:pt x="62" y="427"/>
                  </a:lnTo>
                  <a:lnTo>
                    <a:pt x="62" y="427"/>
                  </a:lnTo>
                  <a:lnTo>
                    <a:pt x="69" y="432"/>
                  </a:lnTo>
                  <a:lnTo>
                    <a:pt x="69" y="432"/>
                  </a:lnTo>
                  <a:lnTo>
                    <a:pt x="69" y="432"/>
                  </a:lnTo>
                  <a:lnTo>
                    <a:pt x="76" y="436"/>
                  </a:lnTo>
                  <a:lnTo>
                    <a:pt x="76" y="436"/>
                  </a:lnTo>
                  <a:lnTo>
                    <a:pt x="76" y="436"/>
                  </a:lnTo>
                  <a:lnTo>
                    <a:pt x="83" y="442"/>
                  </a:lnTo>
                  <a:lnTo>
                    <a:pt x="83" y="442"/>
                  </a:lnTo>
                  <a:lnTo>
                    <a:pt x="83" y="442"/>
                  </a:lnTo>
                  <a:lnTo>
                    <a:pt x="91" y="446"/>
                  </a:lnTo>
                  <a:lnTo>
                    <a:pt x="91" y="446"/>
                  </a:lnTo>
                  <a:lnTo>
                    <a:pt x="91" y="446"/>
                  </a:lnTo>
                  <a:lnTo>
                    <a:pt x="99" y="451"/>
                  </a:lnTo>
                  <a:lnTo>
                    <a:pt x="99" y="451"/>
                  </a:lnTo>
                  <a:lnTo>
                    <a:pt x="99" y="451"/>
                  </a:lnTo>
                  <a:lnTo>
                    <a:pt x="107" y="457"/>
                  </a:lnTo>
                  <a:lnTo>
                    <a:pt x="107" y="457"/>
                  </a:lnTo>
                  <a:lnTo>
                    <a:pt x="107" y="457"/>
                  </a:lnTo>
                  <a:lnTo>
                    <a:pt x="116" y="461"/>
                  </a:lnTo>
                  <a:lnTo>
                    <a:pt x="116" y="461"/>
                  </a:lnTo>
                  <a:lnTo>
                    <a:pt x="116" y="461"/>
                  </a:lnTo>
                  <a:lnTo>
                    <a:pt x="125" y="466"/>
                  </a:lnTo>
                  <a:lnTo>
                    <a:pt x="125" y="466"/>
                  </a:lnTo>
                  <a:lnTo>
                    <a:pt x="125" y="466"/>
                  </a:lnTo>
                  <a:lnTo>
                    <a:pt x="134" y="470"/>
                  </a:lnTo>
                  <a:lnTo>
                    <a:pt x="134" y="470"/>
                  </a:lnTo>
                  <a:lnTo>
                    <a:pt x="134" y="470"/>
                  </a:lnTo>
                  <a:lnTo>
                    <a:pt x="144" y="475"/>
                  </a:lnTo>
                  <a:lnTo>
                    <a:pt x="144" y="475"/>
                  </a:lnTo>
                  <a:lnTo>
                    <a:pt x="144" y="475"/>
                  </a:lnTo>
                  <a:lnTo>
                    <a:pt x="154" y="481"/>
                  </a:lnTo>
                  <a:lnTo>
                    <a:pt x="154" y="481"/>
                  </a:lnTo>
                  <a:lnTo>
                    <a:pt x="154" y="481"/>
                  </a:lnTo>
                  <a:lnTo>
                    <a:pt x="164" y="484"/>
                  </a:lnTo>
                  <a:lnTo>
                    <a:pt x="164" y="484"/>
                  </a:lnTo>
                  <a:lnTo>
                    <a:pt x="164" y="484"/>
                  </a:lnTo>
                  <a:lnTo>
                    <a:pt x="174" y="489"/>
                  </a:lnTo>
                  <a:lnTo>
                    <a:pt x="174" y="489"/>
                  </a:lnTo>
                  <a:lnTo>
                    <a:pt x="174" y="489"/>
                  </a:lnTo>
                  <a:lnTo>
                    <a:pt x="185" y="493"/>
                  </a:lnTo>
                  <a:lnTo>
                    <a:pt x="185" y="493"/>
                  </a:lnTo>
                  <a:lnTo>
                    <a:pt x="185" y="493"/>
                  </a:lnTo>
                  <a:lnTo>
                    <a:pt x="196" y="498"/>
                  </a:lnTo>
                  <a:lnTo>
                    <a:pt x="196" y="498"/>
                  </a:lnTo>
                  <a:lnTo>
                    <a:pt x="196" y="498"/>
                  </a:lnTo>
                  <a:lnTo>
                    <a:pt x="208" y="503"/>
                  </a:lnTo>
                  <a:lnTo>
                    <a:pt x="208" y="503"/>
                  </a:lnTo>
                  <a:lnTo>
                    <a:pt x="208" y="503"/>
                  </a:lnTo>
                  <a:lnTo>
                    <a:pt x="219" y="507"/>
                  </a:lnTo>
                  <a:lnTo>
                    <a:pt x="219" y="507"/>
                  </a:lnTo>
                  <a:lnTo>
                    <a:pt x="219" y="507"/>
                  </a:lnTo>
                  <a:lnTo>
                    <a:pt x="231" y="511"/>
                  </a:lnTo>
                  <a:lnTo>
                    <a:pt x="231" y="511"/>
                  </a:lnTo>
                  <a:lnTo>
                    <a:pt x="231" y="511"/>
                  </a:lnTo>
                  <a:lnTo>
                    <a:pt x="243" y="516"/>
                  </a:lnTo>
                  <a:lnTo>
                    <a:pt x="243" y="516"/>
                  </a:lnTo>
                  <a:lnTo>
                    <a:pt x="243" y="516"/>
                  </a:lnTo>
                  <a:lnTo>
                    <a:pt x="256" y="519"/>
                  </a:lnTo>
                  <a:lnTo>
                    <a:pt x="256" y="519"/>
                  </a:lnTo>
                  <a:lnTo>
                    <a:pt x="256" y="519"/>
                  </a:lnTo>
                  <a:lnTo>
                    <a:pt x="269" y="524"/>
                  </a:lnTo>
                  <a:lnTo>
                    <a:pt x="269" y="524"/>
                  </a:lnTo>
                  <a:lnTo>
                    <a:pt x="269" y="524"/>
                  </a:lnTo>
                  <a:lnTo>
                    <a:pt x="282" y="528"/>
                  </a:lnTo>
                  <a:lnTo>
                    <a:pt x="282" y="528"/>
                  </a:lnTo>
                  <a:lnTo>
                    <a:pt x="282" y="528"/>
                  </a:lnTo>
                  <a:lnTo>
                    <a:pt x="295" y="532"/>
                  </a:lnTo>
                  <a:lnTo>
                    <a:pt x="295" y="532"/>
                  </a:lnTo>
                  <a:lnTo>
                    <a:pt x="295" y="532"/>
                  </a:lnTo>
                  <a:lnTo>
                    <a:pt x="309" y="536"/>
                  </a:lnTo>
                  <a:lnTo>
                    <a:pt x="309" y="536"/>
                  </a:lnTo>
                  <a:lnTo>
                    <a:pt x="309" y="210"/>
                  </a:lnTo>
                  <a:close/>
                </a:path>
              </a:pathLst>
            </a:custGeom>
            <a:solidFill>
              <a:srgbClr val="8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12880" y="3882240"/>
              <a:ext cx="1386720" cy="994680"/>
            </a:xfrm>
            <a:custGeom>
              <a:avLst/>
              <a:gdLst/>
              <a:ahLst/>
              <a:rect l="l" t="t" r="r" b="b"/>
              <a:pathLst>
                <a:path w="842" h="536">
                  <a:moveTo>
                    <a:pt x="842" y="0"/>
                  </a:moveTo>
                  <a:lnTo>
                    <a:pt x="0" y="210"/>
                  </a:lnTo>
                  <a:lnTo>
                    <a:pt x="0" y="536"/>
                  </a:lnTo>
                  <a:lnTo>
                    <a:pt x="842" y="327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8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03480" y="3313800"/>
              <a:ext cx="1896120" cy="957960"/>
            </a:xfrm>
            <a:custGeom>
              <a:avLst/>
              <a:gdLst/>
              <a:ahLst/>
              <a:rect l="l" t="t" r="r" b="b"/>
              <a:pathLst>
                <a:path w="1151" h="516">
                  <a:moveTo>
                    <a:pt x="309" y="516"/>
                  </a:moveTo>
                  <a:lnTo>
                    <a:pt x="309" y="516"/>
                  </a:lnTo>
                  <a:lnTo>
                    <a:pt x="295" y="512"/>
                  </a:lnTo>
                  <a:lnTo>
                    <a:pt x="295" y="512"/>
                  </a:lnTo>
                  <a:lnTo>
                    <a:pt x="295" y="512"/>
                  </a:lnTo>
                  <a:lnTo>
                    <a:pt x="282" y="507"/>
                  </a:lnTo>
                  <a:lnTo>
                    <a:pt x="282" y="507"/>
                  </a:lnTo>
                  <a:lnTo>
                    <a:pt x="282" y="507"/>
                  </a:lnTo>
                  <a:lnTo>
                    <a:pt x="269" y="504"/>
                  </a:lnTo>
                  <a:lnTo>
                    <a:pt x="269" y="504"/>
                  </a:lnTo>
                  <a:lnTo>
                    <a:pt x="269" y="504"/>
                  </a:lnTo>
                  <a:lnTo>
                    <a:pt x="256" y="499"/>
                  </a:lnTo>
                  <a:lnTo>
                    <a:pt x="256" y="499"/>
                  </a:lnTo>
                  <a:lnTo>
                    <a:pt x="256" y="499"/>
                  </a:lnTo>
                  <a:lnTo>
                    <a:pt x="243" y="495"/>
                  </a:lnTo>
                  <a:lnTo>
                    <a:pt x="243" y="495"/>
                  </a:lnTo>
                  <a:lnTo>
                    <a:pt x="243" y="495"/>
                  </a:lnTo>
                  <a:lnTo>
                    <a:pt x="231" y="491"/>
                  </a:lnTo>
                  <a:lnTo>
                    <a:pt x="231" y="491"/>
                  </a:lnTo>
                  <a:lnTo>
                    <a:pt x="231" y="491"/>
                  </a:lnTo>
                  <a:lnTo>
                    <a:pt x="219" y="487"/>
                  </a:lnTo>
                  <a:lnTo>
                    <a:pt x="219" y="487"/>
                  </a:lnTo>
                  <a:lnTo>
                    <a:pt x="219" y="487"/>
                  </a:lnTo>
                  <a:lnTo>
                    <a:pt x="208" y="482"/>
                  </a:lnTo>
                  <a:lnTo>
                    <a:pt x="208" y="482"/>
                  </a:lnTo>
                  <a:lnTo>
                    <a:pt x="208" y="482"/>
                  </a:lnTo>
                  <a:lnTo>
                    <a:pt x="196" y="478"/>
                  </a:lnTo>
                  <a:lnTo>
                    <a:pt x="196" y="478"/>
                  </a:lnTo>
                  <a:lnTo>
                    <a:pt x="196" y="478"/>
                  </a:lnTo>
                  <a:lnTo>
                    <a:pt x="185" y="473"/>
                  </a:lnTo>
                  <a:lnTo>
                    <a:pt x="185" y="473"/>
                  </a:lnTo>
                  <a:lnTo>
                    <a:pt x="185" y="473"/>
                  </a:lnTo>
                  <a:lnTo>
                    <a:pt x="174" y="469"/>
                  </a:lnTo>
                  <a:lnTo>
                    <a:pt x="174" y="469"/>
                  </a:lnTo>
                  <a:lnTo>
                    <a:pt x="174" y="469"/>
                  </a:lnTo>
                  <a:lnTo>
                    <a:pt x="164" y="464"/>
                  </a:lnTo>
                  <a:lnTo>
                    <a:pt x="164" y="464"/>
                  </a:lnTo>
                  <a:lnTo>
                    <a:pt x="164" y="464"/>
                  </a:lnTo>
                  <a:lnTo>
                    <a:pt x="154" y="460"/>
                  </a:lnTo>
                  <a:lnTo>
                    <a:pt x="154" y="460"/>
                  </a:lnTo>
                  <a:lnTo>
                    <a:pt x="154" y="460"/>
                  </a:lnTo>
                  <a:lnTo>
                    <a:pt x="144" y="455"/>
                  </a:lnTo>
                  <a:lnTo>
                    <a:pt x="144" y="455"/>
                  </a:lnTo>
                  <a:lnTo>
                    <a:pt x="144" y="455"/>
                  </a:lnTo>
                  <a:lnTo>
                    <a:pt x="134" y="450"/>
                  </a:lnTo>
                  <a:lnTo>
                    <a:pt x="134" y="450"/>
                  </a:lnTo>
                  <a:lnTo>
                    <a:pt x="134" y="450"/>
                  </a:lnTo>
                  <a:lnTo>
                    <a:pt x="125" y="446"/>
                  </a:lnTo>
                  <a:lnTo>
                    <a:pt x="125" y="446"/>
                  </a:lnTo>
                  <a:lnTo>
                    <a:pt x="125" y="446"/>
                  </a:lnTo>
                  <a:lnTo>
                    <a:pt x="116" y="441"/>
                  </a:lnTo>
                  <a:lnTo>
                    <a:pt x="116" y="441"/>
                  </a:lnTo>
                  <a:lnTo>
                    <a:pt x="116" y="441"/>
                  </a:lnTo>
                  <a:lnTo>
                    <a:pt x="107" y="436"/>
                  </a:lnTo>
                  <a:lnTo>
                    <a:pt x="107" y="436"/>
                  </a:lnTo>
                  <a:lnTo>
                    <a:pt x="107" y="436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91" y="426"/>
                  </a:lnTo>
                  <a:lnTo>
                    <a:pt x="91" y="426"/>
                  </a:lnTo>
                  <a:lnTo>
                    <a:pt x="91" y="426"/>
                  </a:lnTo>
                  <a:lnTo>
                    <a:pt x="83" y="422"/>
                  </a:lnTo>
                  <a:lnTo>
                    <a:pt x="83" y="422"/>
                  </a:lnTo>
                  <a:lnTo>
                    <a:pt x="83" y="422"/>
                  </a:lnTo>
                  <a:lnTo>
                    <a:pt x="76" y="416"/>
                  </a:lnTo>
                  <a:lnTo>
                    <a:pt x="76" y="416"/>
                  </a:lnTo>
                  <a:lnTo>
                    <a:pt x="76" y="416"/>
                  </a:lnTo>
                  <a:lnTo>
                    <a:pt x="69" y="411"/>
                  </a:lnTo>
                  <a:lnTo>
                    <a:pt x="69" y="411"/>
                  </a:lnTo>
                  <a:lnTo>
                    <a:pt x="69" y="411"/>
                  </a:lnTo>
                  <a:lnTo>
                    <a:pt x="62" y="407"/>
                  </a:lnTo>
                  <a:lnTo>
                    <a:pt x="62" y="407"/>
                  </a:lnTo>
                  <a:lnTo>
                    <a:pt x="62" y="407"/>
                  </a:lnTo>
                  <a:lnTo>
                    <a:pt x="56" y="401"/>
                  </a:lnTo>
                  <a:lnTo>
                    <a:pt x="56" y="401"/>
                  </a:lnTo>
                  <a:lnTo>
                    <a:pt x="56" y="401"/>
                  </a:lnTo>
                  <a:lnTo>
                    <a:pt x="50" y="396"/>
                  </a:lnTo>
                  <a:lnTo>
                    <a:pt x="50" y="396"/>
                  </a:lnTo>
                  <a:lnTo>
                    <a:pt x="50" y="396"/>
                  </a:lnTo>
                  <a:lnTo>
                    <a:pt x="44" y="391"/>
                  </a:lnTo>
                  <a:lnTo>
                    <a:pt x="44" y="391"/>
                  </a:lnTo>
                  <a:lnTo>
                    <a:pt x="44" y="391"/>
                  </a:lnTo>
                  <a:lnTo>
                    <a:pt x="39" y="386"/>
                  </a:lnTo>
                  <a:lnTo>
                    <a:pt x="39" y="386"/>
                  </a:lnTo>
                  <a:lnTo>
                    <a:pt x="39" y="386"/>
                  </a:lnTo>
                  <a:lnTo>
                    <a:pt x="34" y="381"/>
                  </a:lnTo>
                  <a:lnTo>
                    <a:pt x="34" y="381"/>
                  </a:lnTo>
                  <a:lnTo>
                    <a:pt x="34" y="381"/>
                  </a:lnTo>
                  <a:lnTo>
                    <a:pt x="29" y="376"/>
                  </a:lnTo>
                  <a:lnTo>
                    <a:pt x="29" y="376"/>
                  </a:lnTo>
                  <a:lnTo>
                    <a:pt x="29" y="376"/>
                  </a:lnTo>
                  <a:lnTo>
                    <a:pt x="25" y="370"/>
                  </a:lnTo>
                  <a:lnTo>
                    <a:pt x="25" y="370"/>
                  </a:lnTo>
                  <a:lnTo>
                    <a:pt x="25" y="370"/>
                  </a:lnTo>
                  <a:lnTo>
                    <a:pt x="20" y="365"/>
                  </a:lnTo>
                  <a:lnTo>
                    <a:pt x="20" y="365"/>
                  </a:lnTo>
                  <a:lnTo>
                    <a:pt x="20" y="365"/>
                  </a:lnTo>
                  <a:lnTo>
                    <a:pt x="17" y="360"/>
                  </a:lnTo>
                  <a:lnTo>
                    <a:pt x="17" y="360"/>
                  </a:lnTo>
                  <a:lnTo>
                    <a:pt x="17" y="360"/>
                  </a:lnTo>
                  <a:lnTo>
                    <a:pt x="14" y="354"/>
                  </a:lnTo>
                  <a:lnTo>
                    <a:pt x="14" y="354"/>
                  </a:lnTo>
                  <a:lnTo>
                    <a:pt x="14" y="354"/>
                  </a:lnTo>
                  <a:lnTo>
                    <a:pt x="10" y="350"/>
                  </a:lnTo>
                  <a:lnTo>
                    <a:pt x="10" y="350"/>
                  </a:lnTo>
                  <a:lnTo>
                    <a:pt x="10" y="350"/>
                  </a:lnTo>
                  <a:lnTo>
                    <a:pt x="8" y="344"/>
                  </a:lnTo>
                  <a:lnTo>
                    <a:pt x="8" y="344"/>
                  </a:lnTo>
                  <a:lnTo>
                    <a:pt x="8" y="344"/>
                  </a:lnTo>
                  <a:lnTo>
                    <a:pt x="6" y="339"/>
                  </a:lnTo>
                  <a:lnTo>
                    <a:pt x="6" y="339"/>
                  </a:lnTo>
                  <a:lnTo>
                    <a:pt x="6" y="339"/>
                  </a:lnTo>
                  <a:lnTo>
                    <a:pt x="4" y="333"/>
                  </a:lnTo>
                  <a:lnTo>
                    <a:pt x="4" y="333"/>
                  </a:lnTo>
                  <a:lnTo>
                    <a:pt x="4" y="333"/>
                  </a:lnTo>
                  <a:lnTo>
                    <a:pt x="2" y="328"/>
                  </a:lnTo>
                  <a:lnTo>
                    <a:pt x="2" y="328"/>
                  </a:lnTo>
                  <a:lnTo>
                    <a:pt x="2" y="328"/>
                  </a:lnTo>
                  <a:lnTo>
                    <a:pt x="1" y="323"/>
                  </a:lnTo>
                  <a:lnTo>
                    <a:pt x="1" y="323"/>
                  </a:lnTo>
                  <a:lnTo>
                    <a:pt x="1" y="323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1" y="291"/>
                  </a:lnTo>
                  <a:lnTo>
                    <a:pt x="1" y="291"/>
                  </a:lnTo>
                  <a:lnTo>
                    <a:pt x="1" y="291"/>
                  </a:lnTo>
                  <a:lnTo>
                    <a:pt x="2" y="285"/>
                  </a:lnTo>
                  <a:lnTo>
                    <a:pt x="2" y="285"/>
                  </a:lnTo>
                  <a:lnTo>
                    <a:pt x="2" y="285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6" y="274"/>
                  </a:lnTo>
                  <a:lnTo>
                    <a:pt x="6" y="274"/>
                  </a:lnTo>
                  <a:lnTo>
                    <a:pt x="6" y="274"/>
                  </a:lnTo>
                  <a:lnTo>
                    <a:pt x="8" y="270"/>
                  </a:lnTo>
                  <a:lnTo>
                    <a:pt x="8" y="270"/>
                  </a:lnTo>
                  <a:lnTo>
                    <a:pt x="8" y="270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14" y="258"/>
                  </a:lnTo>
                  <a:lnTo>
                    <a:pt x="14" y="258"/>
                  </a:lnTo>
                  <a:lnTo>
                    <a:pt x="14" y="258"/>
                  </a:lnTo>
                  <a:lnTo>
                    <a:pt x="17" y="254"/>
                  </a:lnTo>
                  <a:lnTo>
                    <a:pt x="17" y="254"/>
                  </a:lnTo>
                  <a:lnTo>
                    <a:pt x="17" y="254"/>
                  </a:lnTo>
                  <a:lnTo>
                    <a:pt x="20" y="248"/>
                  </a:lnTo>
                  <a:lnTo>
                    <a:pt x="20" y="248"/>
                  </a:lnTo>
                  <a:lnTo>
                    <a:pt x="20" y="248"/>
                  </a:lnTo>
                  <a:lnTo>
                    <a:pt x="25" y="243"/>
                  </a:lnTo>
                  <a:lnTo>
                    <a:pt x="25" y="243"/>
                  </a:lnTo>
                  <a:lnTo>
                    <a:pt x="25" y="243"/>
                  </a:lnTo>
                  <a:lnTo>
                    <a:pt x="29" y="237"/>
                  </a:lnTo>
                  <a:lnTo>
                    <a:pt x="29" y="237"/>
                  </a:lnTo>
                  <a:lnTo>
                    <a:pt x="29" y="237"/>
                  </a:lnTo>
                  <a:lnTo>
                    <a:pt x="34" y="233"/>
                  </a:lnTo>
                  <a:lnTo>
                    <a:pt x="34" y="233"/>
                  </a:lnTo>
                  <a:lnTo>
                    <a:pt x="34" y="233"/>
                  </a:lnTo>
                  <a:lnTo>
                    <a:pt x="39" y="227"/>
                  </a:lnTo>
                  <a:lnTo>
                    <a:pt x="39" y="227"/>
                  </a:lnTo>
                  <a:lnTo>
                    <a:pt x="39" y="227"/>
                  </a:lnTo>
                  <a:lnTo>
                    <a:pt x="44" y="223"/>
                  </a:lnTo>
                  <a:lnTo>
                    <a:pt x="44" y="223"/>
                  </a:lnTo>
                  <a:lnTo>
                    <a:pt x="44" y="223"/>
                  </a:lnTo>
                  <a:lnTo>
                    <a:pt x="50" y="217"/>
                  </a:lnTo>
                  <a:lnTo>
                    <a:pt x="50" y="217"/>
                  </a:lnTo>
                  <a:lnTo>
                    <a:pt x="50" y="217"/>
                  </a:lnTo>
                  <a:lnTo>
                    <a:pt x="56" y="211"/>
                  </a:lnTo>
                  <a:lnTo>
                    <a:pt x="56" y="211"/>
                  </a:lnTo>
                  <a:lnTo>
                    <a:pt x="56" y="211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9" y="202"/>
                  </a:lnTo>
                  <a:lnTo>
                    <a:pt x="69" y="202"/>
                  </a:lnTo>
                  <a:lnTo>
                    <a:pt x="69" y="202"/>
                  </a:lnTo>
                  <a:lnTo>
                    <a:pt x="76" y="197"/>
                  </a:lnTo>
                  <a:lnTo>
                    <a:pt x="76" y="197"/>
                  </a:lnTo>
                  <a:lnTo>
                    <a:pt x="76" y="197"/>
                  </a:lnTo>
                  <a:lnTo>
                    <a:pt x="83" y="192"/>
                  </a:lnTo>
                  <a:lnTo>
                    <a:pt x="83" y="192"/>
                  </a:lnTo>
                  <a:lnTo>
                    <a:pt x="83" y="192"/>
                  </a:lnTo>
                  <a:lnTo>
                    <a:pt x="91" y="187"/>
                  </a:lnTo>
                  <a:lnTo>
                    <a:pt x="91" y="187"/>
                  </a:lnTo>
                  <a:lnTo>
                    <a:pt x="91" y="187"/>
                  </a:lnTo>
                  <a:lnTo>
                    <a:pt x="99" y="182"/>
                  </a:lnTo>
                  <a:lnTo>
                    <a:pt x="99" y="182"/>
                  </a:lnTo>
                  <a:lnTo>
                    <a:pt x="99" y="182"/>
                  </a:lnTo>
                  <a:lnTo>
                    <a:pt x="107" y="177"/>
                  </a:lnTo>
                  <a:lnTo>
                    <a:pt x="107" y="177"/>
                  </a:lnTo>
                  <a:lnTo>
                    <a:pt x="107" y="177"/>
                  </a:lnTo>
                  <a:lnTo>
                    <a:pt x="116" y="172"/>
                  </a:lnTo>
                  <a:lnTo>
                    <a:pt x="116" y="172"/>
                  </a:lnTo>
                  <a:lnTo>
                    <a:pt x="116" y="172"/>
                  </a:lnTo>
                  <a:lnTo>
                    <a:pt x="125" y="167"/>
                  </a:lnTo>
                  <a:lnTo>
                    <a:pt x="125" y="167"/>
                  </a:lnTo>
                  <a:lnTo>
                    <a:pt x="125" y="167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144" y="158"/>
                  </a:lnTo>
                  <a:lnTo>
                    <a:pt x="144" y="158"/>
                  </a:lnTo>
                  <a:lnTo>
                    <a:pt x="144" y="158"/>
                  </a:lnTo>
                  <a:lnTo>
                    <a:pt x="154" y="153"/>
                  </a:lnTo>
                  <a:lnTo>
                    <a:pt x="154" y="153"/>
                  </a:lnTo>
                  <a:lnTo>
                    <a:pt x="154" y="153"/>
                  </a:lnTo>
                  <a:lnTo>
                    <a:pt x="164" y="149"/>
                  </a:lnTo>
                  <a:lnTo>
                    <a:pt x="164" y="149"/>
                  </a:lnTo>
                  <a:lnTo>
                    <a:pt x="164" y="149"/>
                  </a:lnTo>
                  <a:lnTo>
                    <a:pt x="174" y="144"/>
                  </a:lnTo>
                  <a:lnTo>
                    <a:pt x="174" y="144"/>
                  </a:lnTo>
                  <a:lnTo>
                    <a:pt x="174" y="144"/>
                  </a:lnTo>
                  <a:lnTo>
                    <a:pt x="185" y="140"/>
                  </a:lnTo>
                  <a:lnTo>
                    <a:pt x="185" y="140"/>
                  </a:lnTo>
                  <a:lnTo>
                    <a:pt x="185" y="140"/>
                  </a:lnTo>
                  <a:lnTo>
                    <a:pt x="196" y="135"/>
                  </a:lnTo>
                  <a:lnTo>
                    <a:pt x="196" y="135"/>
                  </a:lnTo>
                  <a:lnTo>
                    <a:pt x="196" y="135"/>
                  </a:lnTo>
                  <a:lnTo>
                    <a:pt x="208" y="131"/>
                  </a:lnTo>
                  <a:lnTo>
                    <a:pt x="208" y="131"/>
                  </a:lnTo>
                  <a:lnTo>
                    <a:pt x="208" y="131"/>
                  </a:lnTo>
                  <a:lnTo>
                    <a:pt x="219" y="127"/>
                  </a:lnTo>
                  <a:lnTo>
                    <a:pt x="219" y="127"/>
                  </a:lnTo>
                  <a:lnTo>
                    <a:pt x="219" y="127"/>
                  </a:lnTo>
                  <a:lnTo>
                    <a:pt x="231" y="122"/>
                  </a:lnTo>
                  <a:lnTo>
                    <a:pt x="231" y="122"/>
                  </a:lnTo>
                  <a:lnTo>
                    <a:pt x="231" y="122"/>
                  </a:lnTo>
                  <a:lnTo>
                    <a:pt x="243" y="118"/>
                  </a:lnTo>
                  <a:lnTo>
                    <a:pt x="243" y="118"/>
                  </a:lnTo>
                  <a:lnTo>
                    <a:pt x="243" y="118"/>
                  </a:lnTo>
                  <a:lnTo>
                    <a:pt x="256" y="114"/>
                  </a:lnTo>
                  <a:lnTo>
                    <a:pt x="256" y="114"/>
                  </a:lnTo>
                  <a:lnTo>
                    <a:pt x="256" y="114"/>
                  </a:lnTo>
                  <a:lnTo>
                    <a:pt x="269" y="110"/>
                  </a:lnTo>
                  <a:lnTo>
                    <a:pt x="269" y="110"/>
                  </a:lnTo>
                  <a:lnTo>
                    <a:pt x="269" y="110"/>
                  </a:lnTo>
                  <a:lnTo>
                    <a:pt x="282" y="106"/>
                  </a:lnTo>
                  <a:lnTo>
                    <a:pt x="282" y="106"/>
                  </a:lnTo>
                  <a:lnTo>
                    <a:pt x="282" y="106"/>
                  </a:lnTo>
                  <a:lnTo>
                    <a:pt x="295" y="102"/>
                  </a:lnTo>
                  <a:lnTo>
                    <a:pt x="295" y="102"/>
                  </a:lnTo>
                  <a:lnTo>
                    <a:pt x="295" y="102"/>
                  </a:lnTo>
                  <a:lnTo>
                    <a:pt x="309" y="97"/>
                  </a:lnTo>
                  <a:lnTo>
                    <a:pt x="309" y="97"/>
                  </a:lnTo>
                  <a:lnTo>
                    <a:pt x="309" y="97"/>
                  </a:lnTo>
                  <a:lnTo>
                    <a:pt x="322" y="94"/>
                  </a:lnTo>
                  <a:lnTo>
                    <a:pt x="322" y="94"/>
                  </a:lnTo>
                  <a:lnTo>
                    <a:pt x="322" y="94"/>
                  </a:lnTo>
                  <a:lnTo>
                    <a:pt x="337" y="90"/>
                  </a:lnTo>
                  <a:lnTo>
                    <a:pt x="337" y="90"/>
                  </a:lnTo>
                  <a:lnTo>
                    <a:pt x="337" y="90"/>
                  </a:lnTo>
                  <a:lnTo>
                    <a:pt x="351" y="86"/>
                  </a:lnTo>
                  <a:lnTo>
                    <a:pt x="351" y="86"/>
                  </a:lnTo>
                  <a:lnTo>
                    <a:pt x="351" y="86"/>
                  </a:lnTo>
                  <a:lnTo>
                    <a:pt x="365" y="82"/>
                  </a:lnTo>
                  <a:lnTo>
                    <a:pt x="365" y="82"/>
                  </a:lnTo>
                  <a:lnTo>
                    <a:pt x="365" y="82"/>
                  </a:lnTo>
                  <a:lnTo>
                    <a:pt x="381" y="79"/>
                  </a:lnTo>
                  <a:lnTo>
                    <a:pt x="381" y="79"/>
                  </a:lnTo>
                  <a:lnTo>
                    <a:pt x="381" y="79"/>
                  </a:lnTo>
                  <a:lnTo>
                    <a:pt x="396" y="75"/>
                  </a:lnTo>
                  <a:lnTo>
                    <a:pt x="396" y="75"/>
                  </a:lnTo>
                  <a:lnTo>
                    <a:pt x="396" y="75"/>
                  </a:lnTo>
                  <a:lnTo>
                    <a:pt x="411" y="72"/>
                  </a:lnTo>
                  <a:lnTo>
                    <a:pt x="411" y="72"/>
                  </a:lnTo>
                  <a:lnTo>
                    <a:pt x="411" y="72"/>
                  </a:lnTo>
                  <a:lnTo>
                    <a:pt x="426" y="69"/>
                  </a:lnTo>
                  <a:lnTo>
                    <a:pt x="426" y="69"/>
                  </a:lnTo>
                  <a:lnTo>
                    <a:pt x="426" y="69"/>
                  </a:lnTo>
                  <a:lnTo>
                    <a:pt x="442" y="65"/>
                  </a:lnTo>
                  <a:lnTo>
                    <a:pt x="442" y="65"/>
                  </a:lnTo>
                  <a:lnTo>
                    <a:pt x="442" y="65"/>
                  </a:lnTo>
                  <a:lnTo>
                    <a:pt x="458" y="62"/>
                  </a:lnTo>
                  <a:lnTo>
                    <a:pt x="458" y="62"/>
                  </a:lnTo>
                  <a:lnTo>
                    <a:pt x="458" y="62"/>
                  </a:lnTo>
                  <a:lnTo>
                    <a:pt x="474" y="59"/>
                  </a:lnTo>
                  <a:lnTo>
                    <a:pt x="474" y="59"/>
                  </a:lnTo>
                  <a:lnTo>
                    <a:pt x="474" y="59"/>
                  </a:lnTo>
                  <a:lnTo>
                    <a:pt x="491" y="56"/>
                  </a:lnTo>
                  <a:lnTo>
                    <a:pt x="491" y="56"/>
                  </a:lnTo>
                  <a:lnTo>
                    <a:pt x="491" y="56"/>
                  </a:lnTo>
                  <a:lnTo>
                    <a:pt x="507" y="53"/>
                  </a:lnTo>
                  <a:lnTo>
                    <a:pt x="507" y="53"/>
                  </a:lnTo>
                  <a:lnTo>
                    <a:pt x="507" y="53"/>
                  </a:lnTo>
                  <a:lnTo>
                    <a:pt x="524" y="49"/>
                  </a:lnTo>
                  <a:lnTo>
                    <a:pt x="524" y="49"/>
                  </a:lnTo>
                  <a:lnTo>
                    <a:pt x="524" y="49"/>
                  </a:lnTo>
                  <a:lnTo>
                    <a:pt x="541" y="47"/>
                  </a:lnTo>
                  <a:lnTo>
                    <a:pt x="541" y="47"/>
                  </a:lnTo>
                  <a:lnTo>
                    <a:pt x="541" y="47"/>
                  </a:lnTo>
                  <a:lnTo>
                    <a:pt x="558" y="44"/>
                  </a:lnTo>
                  <a:lnTo>
                    <a:pt x="558" y="44"/>
                  </a:lnTo>
                  <a:lnTo>
                    <a:pt x="558" y="44"/>
                  </a:lnTo>
                  <a:lnTo>
                    <a:pt x="575" y="41"/>
                  </a:lnTo>
                  <a:lnTo>
                    <a:pt x="575" y="41"/>
                  </a:lnTo>
                  <a:lnTo>
                    <a:pt x="575" y="41"/>
                  </a:lnTo>
                  <a:lnTo>
                    <a:pt x="593" y="38"/>
                  </a:lnTo>
                  <a:lnTo>
                    <a:pt x="593" y="38"/>
                  </a:lnTo>
                  <a:lnTo>
                    <a:pt x="593" y="38"/>
                  </a:lnTo>
                  <a:lnTo>
                    <a:pt x="610" y="36"/>
                  </a:lnTo>
                  <a:lnTo>
                    <a:pt x="610" y="36"/>
                  </a:lnTo>
                  <a:lnTo>
                    <a:pt x="610" y="36"/>
                  </a:lnTo>
                  <a:lnTo>
                    <a:pt x="628" y="34"/>
                  </a:lnTo>
                  <a:lnTo>
                    <a:pt x="628" y="34"/>
                  </a:lnTo>
                  <a:lnTo>
                    <a:pt x="628" y="34"/>
                  </a:lnTo>
                  <a:lnTo>
                    <a:pt x="646" y="31"/>
                  </a:lnTo>
                  <a:lnTo>
                    <a:pt x="646" y="31"/>
                  </a:lnTo>
                  <a:lnTo>
                    <a:pt x="646" y="31"/>
                  </a:lnTo>
                  <a:lnTo>
                    <a:pt x="665" y="29"/>
                  </a:lnTo>
                  <a:lnTo>
                    <a:pt x="665" y="29"/>
                  </a:lnTo>
                  <a:lnTo>
                    <a:pt x="665" y="29"/>
                  </a:lnTo>
                  <a:lnTo>
                    <a:pt x="683" y="26"/>
                  </a:lnTo>
                  <a:lnTo>
                    <a:pt x="683" y="26"/>
                  </a:lnTo>
                  <a:lnTo>
                    <a:pt x="683" y="26"/>
                  </a:lnTo>
                  <a:lnTo>
                    <a:pt x="701" y="24"/>
                  </a:lnTo>
                  <a:lnTo>
                    <a:pt x="701" y="24"/>
                  </a:lnTo>
                  <a:lnTo>
                    <a:pt x="701" y="24"/>
                  </a:lnTo>
                  <a:lnTo>
                    <a:pt x="719" y="23"/>
                  </a:lnTo>
                  <a:lnTo>
                    <a:pt x="719" y="23"/>
                  </a:lnTo>
                  <a:lnTo>
                    <a:pt x="719" y="23"/>
                  </a:lnTo>
                  <a:lnTo>
                    <a:pt x="738" y="21"/>
                  </a:lnTo>
                  <a:lnTo>
                    <a:pt x="738" y="21"/>
                  </a:lnTo>
                  <a:lnTo>
                    <a:pt x="738" y="21"/>
                  </a:lnTo>
                  <a:lnTo>
                    <a:pt x="757" y="19"/>
                  </a:lnTo>
                  <a:lnTo>
                    <a:pt x="757" y="19"/>
                  </a:lnTo>
                  <a:lnTo>
                    <a:pt x="757" y="19"/>
                  </a:lnTo>
                  <a:lnTo>
                    <a:pt x="776" y="17"/>
                  </a:lnTo>
                  <a:lnTo>
                    <a:pt x="776" y="17"/>
                  </a:lnTo>
                  <a:lnTo>
                    <a:pt x="776" y="17"/>
                  </a:lnTo>
                  <a:lnTo>
                    <a:pt x="796" y="15"/>
                  </a:lnTo>
                  <a:lnTo>
                    <a:pt x="796" y="15"/>
                  </a:lnTo>
                  <a:lnTo>
                    <a:pt x="796" y="15"/>
                  </a:lnTo>
                  <a:lnTo>
                    <a:pt x="814" y="13"/>
                  </a:lnTo>
                  <a:lnTo>
                    <a:pt x="814" y="13"/>
                  </a:lnTo>
                  <a:lnTo>
                    <a:pt x="814" y="13"/>
                  </a:lnTo>
                  <a:lnTo>
                    <a:pt x="834" y="12"/>
                  </a:lnTo>
                  <a:lnTo>
                    <a:pt x="834" y="12"/>
                  </a:lnTo>
                  <a:lnTo>
                    <a:pt x="834" y="12"/>
                  </a:lnTo>
                  <a:lnTo>
                    <a:pt x="853" y="11"/>
                  </a:lnTo>
                  <a:lnTo>
                    <a:pt x="853" y="11"/>
                  </a:lnTo>
                  <a:lnTo>
                    <a:pt x="853" y="11"/>
                  </a:lnTo>
                  <a:lnTo>
                    <a:pt x="873" y="10"/>
                  </a:lnTo>
                  <a:lnTo>
                    <a:pt x="873" y="10"/>
                  </a:lnTo>
                  <a:lnTo>
                    <a:pt x="873" y="10"/>
                  </a:lnTo>
                  <a:lnTo>
                    <a:pt x="892" y="8"/>
                  </a:lnTo>
                  <a:lnTo>
                    <a:pt x="892" y="8"/>
                  </a:lnTo>
                  <a:lnTo>
                    <a:pt x="892" y="8"/>
                  </a:lnTo>
                  <a:lnTo>
                    <a:pt x="912" y="7"/>
                  </a:lnTo>
                  <a:lnTo>
                    <a:pt x="912" y="7"/>
                  </a:lnTo>
                  <a:lnTo>
                    <a:pt x="912" y="7"/>
                  </a:lnTo>
                  <a:lnTo>
                    <a:pt x="932" y="6"/>
                  </a:lnTo>
                  <a:lnTo>
                    <a:pt x="932" y="6"/>
                  </a:lnTo>
                  <a:lnTo>
                    <a:pt x="932" y="6"/>
                  </a:lnTo>
                  <a:lnTo>
                    <a:pt x="952" y="5"/>
                  </a:lnTo>
                  <a:lnTo>
                    <a:pt x="952" y="5"/>
                  </a:lnTo>
                  <a:lnTo>
                    <a:pt x="952" y="5"/>
                  </a:lnTo>
                  <a:lnTo>
                    <a:pt x="971" y="4"/>
                  </a:lnTo>
                  <a:lnTo>
                    <a:pt x="971" y="4"/>
                  </a:lnTo>
                  <a:lnTo>
                    <a:pt x="971" y="4"/>
                  </a:lnTo>
                  <a:lnTo>
                    <a:pt x="991" y="3"/>
                  </a:lnTo>
                  <a:lnTo>
                    <a:pt x="991" y="3"/>
                  </a:lnTo>
                  <a:lnTo>
                    <a:pt x="991" y="3"/>
                  </a:lnTo>
                  <a:lnTo>
                    <a:pt x="1011" y="2"/>
                  </a:lnTo>
                  <a:lnTo>
                    <a:pt x="1011" y="2"/>
                  </a:lnTo>
                  <a:lnTo>
                    <a:pt x="1011" y="2"/>
                  </a:lnTo>
                  <a:lnTo>
                    <a:pt x="1030" y="2"/>
                  </a:lnTo>
                  <a:lnTo>
                    <a:pt x="1030" y="2"/>
                  </a:lnTo>
                  <a:lnTo>
                    <a:pt x="1030" y="2"/>
                  </a:lnTo>
                  <a:lnTo>
                    <a:pt x="1051" y="1"/>
                  </a:lnTo>
                  <a:lnTo>
                    <a:pt x="1051" y="1"/>
                  </a:lnTo>
                  <a:lnTo>
                    <a:pt x="1051" y="1"/>
                  </a:lnTo>
                  <a:lnTo>
                    <a:pt x="1071" y="1"/>
                  </a:lnTo>
                  <a:lnTo>
                    <a:pt x="1071" y="1"/>
                  </a:lnTo>
                  <a:lnTo>
                    <a:pt x="1071" y="1"/>
                  </a:lnTo>
                  <a:lnTo>
                    <a:pt x="1090" y="0"/>
                  </a:lnTo>
                  <a:lnTo>
                    <a:pt x="1090" y="0"/>
                  </a:lnTo>
                  <a:lnTo>
                    <a:pt x="1090" y="0"/>
                  </a:lnTo>
                  <a:lnTo>
                    <a:pt x="1111" y="0"/>
                  </a:lnTo>
                  <a:lnTo>
                    <a:pt x="1111" y="0"/>
                  </a:lnTo>
                  <a:lnTo>
                    <a:pt x="1111" y="0"/>
                  </a:lnTo>
                  <a:lnTo>
                    <a:pt x="1131" y="0"/>
                  </a:lnTo>
                  <a:lnTo>
                    <a:pt x="1131" y="0"/>
                  </a:lnTo>
                  <a:lnTo>
                    <a:pt x="1131" y="0"/>
                  </a:lnTo>
                  <a:lnTo>
                    <a:pt x="1151" y="0"/>
                  </a:lnTo>
                  <a:lnTo>
                    <a:pt x="1151" y="0"/>
                  </a:lnTo>
                  <a:lnTo>
                    <a:pt x="1151" y="306"/>
                  </a:lnTo>
                  <a:lnTo>
                    <a:pt x="309" y="516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8160" y="3211920"/>
              <a:ext cx="235440" cy="448920"/>
            </a:xfrm>
            <a:custGeom>
              <a:avLst/>
              <a:gdLst/>
              <a:ahLst/>
              <a:rect l="l" t="t" r="r" b="b"/>
              <a:pathLst>
                <a:path w="160" h="262">
                  <a:moveTo>
                    <a:pt x="0" y="0"/>
                  </a:moveTo>
                  <a:lnTo>
                    <a:pt x="77" y="0"/>
                  </a:lnTo>
                  <a:lnTo>
                    <a:pt x="160" y="2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22040" y="3909960"/>
              <a:ext cx="3286080" cy="1174680"/>
            </a:xfrm>
            <a:custGeom>
              <a:avLst/>
              <a:gdLst/>
              <a:ahLst/>
              <a:rect l="l" t="t" r="r" b="b"/>
              <a:pathLst>
                <a:path w="1995" h="633">
                  <a:moveTo>
                    <a:pt x="1995" y="0"/>
                  </a:moveTo>
                  <a:lnTo>
                    <a:pt x="1995" y="6"/>
                  </a:lnTo>
                  <a:lnTo>
                    <a:pt x="1995" y="6"/>
                  </a:lnTo>
                  <a:lnTo>
                    <a:pt x="1994" y="11"/>
                  </a:lnTo>
                  <a:lnTo>
                    <a:pt x="1994" y="11"/>
                  </a:lnTo>
                  <a:lnTo>
                    <a:pt x="1993" y="17"/>
                  </a:lnTo>
                  <a:lnTo>
                    <a:pt x="1993" y="17"/>
                  </a:lnTo>
                  <a:lnTo>
                    <a:pt x="1992" y="21"/>
                  </a:lnTo>
                  <a:lnTo>
                    <a:pt x="1992" y="21"/>
                  </a:lnTo>
                  <a:lnTo>
                    <a:pt x="1990" y="27"/>
                  </a:lnTo>
                  <a:lnTo>
                    <a:pt x="1990" y="27"/>
                  </a:lnTo>
                  <a:lnTo>
                    <a:pt x="1988" y="32"/>
                  </a:lnTo>
                  <a:lnTo>
                    <a:pt x="1986" y="38"/>
                  </a:lnTo>
                  <a:lnTo>
                    <a:pt x="1986" y="38"/>
                  </a:lnTo>
                  <a:lnTo>
                    <a:pt x="1983" y="43"/>
                  </a:lnTo>
                  <a:lnTo>
                    <a:pt x="1983" y="43"/>
                  </a:lnTo>
                  <a:lnTo>
                    <a:pt x="1980" y="48"/>
                  </a:lnTo>
                  <a:lnTo>
                    <a:pt x="1980" y="48"/>
                  </a:lnTo>
                  <a:lnTo>
                    <a:pt x="1977" y="54"/>
                  </a:lnTo>
                  <a:lnTo>
                    <a:pt x="1977" y="54"/>
                  </a:lnTo>
                  <a:lnTo>
                    <a:pt x="1973" y="59"/>
                  </a:lnTo>
                  <a:lnTo>
                    <a:pt x="1970" y="64"/>
                  </a:lnTo>
                  <a:lnTo>
                    <a:pt x="1970" y="64"/>
                  </a:lnTo>
                  <a:lnTo>
                    <a:pt x="1965" y="69"/>
                  </a:lnTo>
                  <a:lnTo>
                    <a:pt x="1965" y="69"/>
                  </a:lnTo>
                  <a:lnTo>
                    <a:pt x="1961" y="75"/>
                  </a:lnTo>
                  <a:lnTo>
                    <a:pt x="1961" y="75"/>
                  </a:lnTo>
                  <a:lnTo>
                    <a:pt x="1955" y="79"/>
                  </a:lnTo>
                  <a:lnTo>
                    <a:pt x="1955" y="79"/>
                  </a:lnTo>
                  <a:lnTo>
                    <a:pt x="1950" y="85"/>
                  </a:lnTo>
                  <a:lnTo>
                    <a:pt x="1950" y="85"/>
                  </a:lnTo>
                  <a:lnTo>
                    <a:pt x="1944" y="90"/>
                  </a:lnTo>
                  <a:lnTo>
                    <a:pt x="1938" y="95"/>
                  </a:lnTo>
                  <a:lnTo>
                    <a:pt x="1938" y="95"/>
                  </a:lnTo>
                  <a:lnTo>
                    <a:pt x="1932" y="101"/>
                  </a:lnTo>
                  <a:lnTo>
                    <a:pt x="1932" y="101"/>
                  </a:lnTo>
                  <a:lnTo>
                    <a:pt x="1925" y="105"/>
                  </a:lnTo>
                  <a:lnTo>
                    <a:pt x="1925" y="105"/>
                  </a:lnTo>
                  <a:lnTo>
                    <a:pt x="1918" y="110"/>
                  </a:lnTo>
                  <a:lnTo>
                    <a:pt x="1918" y="110"/>
                  </a:lnTo>
                  <a:lnTo>
                    <a:pt x="1910" y="115"/>
                  </a:lnTo>
                  <a:lnTo>
                    <a:pt x="1910" y="115"/>
                  </a:lnTo>
                  <a:lnTo>
                    <a:pt x="1903" y="120"/>
                  </a:lnTo>
                  <a:lnTo>
                    <a:pt x="1895" y="125"/>
                  </a:lnTo>
                  <a:lnTo>
                    <a:pt x="1895" y="125"/>
                  </a:lnTo>
                  <a:lnTo>
                    <a:pt x="1886" y="130"/>
                  </a:lnTo>
                  <a:lnTo>
                    <a:pt x="1886" y="130"/>
                  </a:lnTo>
                  <a:lnTo>
                    <a:pt x="1878" y="135"/>
                  </a:lnTo>
                  <a:lnTo>
                    <a:pt x="1878" y="135"/>
                  </a:lnTo>
                  <a:lnTo>
                    <a:pt x="1869" y="139"/>
                  </a:lnTo>
                  <a:lnTo>
                    <a:pt x="1869" y="139"/>
                  </a:lnTo>
                  <a:lnTo>
                    <a:pt x="1859" y="144"/>
                  </a:lnTo>
                  <a:lnTo>
                    <a:pt x="1859" y="144"/>
                  </a:lnTo>
                  <a:lnTo>
                    <a:pt x="1850" y="149"/>
                  </a:lnTo>
                  <a:lnTo>
                    <a:pt x="1840" y="154"/>
                  </a:lnTo>
                  <a:lnTo>
                    <a:pt x="1840" y="154"/>
                  </a:lnTo>
                  <a:lnTo>
                    <a:pt x="1830" y="158"/>
                  </a:lnTo>
                  <a:lnTo>
                    <a:pt x="1830" y="158"/>
                  </a:lnTo>
                  <a:lnTo>
                    <a:pt x="1819" y="162"/>
                  </a:lnTo>
                  <a:lnTo>
                    <a:pt x="1819" y="162"/>
                  </a:lnTo>
                  <a:lnTo>
                    <a:pt x="1808" y="167"/>
                  </a:lnTo>
                  <a:lnTo>
                    <a:pt x="1808" y="167"/>
                  </a:lnTo>
                  <a:lnTo>
                    <a:pt x="1797" y="172"/>
                  </a:lnTo>
                  <a:lnTo>
                    <a:pt x="1786" y="176"/>
                  </a:lnTo>
                  <a:lnTo>
                    <a:pt x="1786" y="176"/>
                  </a:lnTo>
                  <a:lnTo>
                    <a:pt x="1774" y="181"/>
                  </a:lnTo>
                  <a:lnTo>
                    <a:pt x="1774" y="181"/>
                  </a:lnTo>
                  <a:lnTo>
                    <a:pt x="1762" y="184"/>
                  </a:lnTo>
                  <a:lnTo>
                    <a:pt x="1762" y="184"/>
                  </a:lnTo>
                  <a:lnTo>
                    <a:pt x="1750" y="189"/>
                  </a:lnTo>
                  <a:lnTo>
                    <a:pt x="1750" y="189"/>
                  </a:lnTo>
                  <a:lnTo>
                    <a:pt x="1737" y="193"/>
                  </a:lnTo>
                  <a:lnTo>
                    <a:pt x="1737" y="193"/>
                  </a:lnTo>
                  <a:lnTo>
                    <a:pt x="1725" y="197"/>
                  </a:lnTo>
                  <a:lnTo>
                    <a:pt x="1712" y="201"/>
                  </a:lnTo>
                  <a:lnTo>
                    <a:pt x="1712" y="201"/>
                  </a:lnTo>
                  <a:lnTo>
                    <a:pt x="1699" y="206"/>
                  </a:lnTo>
                  <a:lnTo>
                    <a:pt x="1699" y="206"/>
                  </a:lnTo>
                  <a:lnTo>
                    <a:pt x="1685" y="209"/>
                  </a:lnTo>
                  <a:lnTo>
                    <a:pt x="1685" y="209"/>
                  </a:lnTo>
                  <a:lnTo>
                    <a:pt x="1671" y="213"/>
                  </a:lnTo>
                  <a:lnTo>
                    <a:pt x="1671" y="213"/>
                  </a:lnTo>
                  <a:lnTo>
                    <a:pt x="1657" y="217"/>
                  </a:lnTo>
                  <a:lnTo>
                    <a:pt x="1657" y="217"/>
                  </a:lnTo>
                  <a:lnTo>
                    <a:pt x="1642" y="220"/>
                  </a:lnTo>
                  <a:lnTo>
                    <a:pt x="1628" y="224"/>
                  </a:lnTo>
                  <a:lnTo>
                    <a:pt x="1628" y="224"/>
                  </a:lnTo>
                  <a:lnTo>
                    <a:pt x="1614" y="228"/>
                  </a:lnTo>
                  <a:lnTo>
                    <a:pt x="1614" y="228"/>
                  </a:lnTo>
                  <a:lnTo>
                    <a:pt x="1598" y="231"/>
                  </a:lnTo>
                  <a:lnTo>
                    <a:pt x="1598" y="231"/>
                  </a:lnTo>
                  <a:lnTo>
                    <a:pt x="1583" y="235"/>
                  </a:lnTo>
                  <a:lnTo>
                    <a:pt x="1583" y="235"/>
                  </a:lnTo>
                  <a:lnTo>
                    <a:pt x="1567" y="239"/>
                  </a:lnTo>
                  <a:lnTo>
                    <a:pt x="1552" y="242"/>
                  </a:lnTo>
                  <a:lnTo>
                    <a:pt x="1552" y="242"/>
                  </a:lnTo>
                  <a:lnTo>
                    <a:pt x="1536" y="245"/>
                  </a:lnTo>
                  <a:lnTo>
                    <a:pt x="1536" y="245"/>
                  </a:lnTo>
                  <a:lnTo>
                    <a:pt x="1520" y="248"/>
                  </a:lnTo>
                  <a:lnTo>
                    <a:pt x="1520" y="248"/>
                  </a:lnTo>
                  <a:lnTo>
                    <a:pt x="1503" y="252"/>
                  </a:lnTo>
                  <a:lnTo>
                    <a:pt x="1503" y="252"/>
                  </a:lnTo>
                  <a:lnTo>
                    <a:pt x="1486" y="254"/>
                  </a:lnTo>
                  <a:lnTo>
                    <a:pt x="1486" y="254"/>
                  </a:lnTo>
                  <a:lnTo>
                    <a:pt x="1470" y="257"/>
                  </a:lnTo>
                  <a:lnTo>
                    <a:pt x="1453" y="260"/>
                  </a:lnTo>
                  <a:lnTo>
                    <a:pt x="1453" y="260"/>
                  </a:lnTo>
                  <a:lnTo>
                    <a:pt x="1436" y="263"/>
                  </a:lnTo>
                  <a:lnTo>
                    <a:pt x="1436" y="263"/>
                  </a:lnTo>
                  <a:lnTo>
                    <a:pt x="1418" y="266"/>
                  </a:lnTo>
                  <a:lnTo>
                    <a:pt x="1418" y="266"/>
                  </a:lnTo>
                  <a:lnTo>
                    <a:pt x="1401" y="268"/>
                  </a:lnTo>
                  <a:lnTo>
                    <a:pt x="1401" y="268"/>
                  </a:lnTo>
                  <a:lnTo>
                    <a:pt x="1383" y="271"/>
                  </a:lnTo>
                  <a:lnTo>
                    <a:pt x="1383" y="271"/>
                  </a:lnTo>
                  <a:lnTo>
                    <a:pt x="1365" y="274"/>
                  </a:lnTo>
                  <a:lnTo>
                    <a:pt x="1347" y="276"/>
                  </a:lnTo>
                  <a:lnTo>
                    <a:pt x="1347" y="276"/>
                  </a:lnTo>
                  <a:lnTo>
                    <a:pt x="1329" y="278"/>
                  </a:lnTo>
                  <a:lnTo>
                    <a:pt x="1329" y="278"/>
                  </a:lnTo>
                  <a:lnTo>
                    <a:pt x="1311" y="280"/>
                  </a:lnTo>
                  <a:lnTo>
                    <a:pt x="1311" y="280"/>
                  </a:lnTo>
                  <a:lnTo>
                    <a:pt x="1293" y="282"/>
                  </a:lnTo>
                  <a:lnTo>
                    <a:pt x="1293" y="282"/>
                  </a:lnTo>
                  <a:lnTo>
                    <a:pt x="1274" y="285"/>
                  </a:lnTo>
                  <a:lnTo>
                    <a:pt x="1255" y="287"/>
                  </a:lnTo>
                  <a:lnTo>
                    <a:pt x="1255" y="287"/>
                  </a:lnTo>
                  <a:lnTo>
                    <a:pt x="1236" y="289"/>
                  </a:lnTo>
                  <a:lnTo>
                    <a:pt x="1236" y="289"/>
                  </a:lnTo>
                  <a:lnTo>
                    <a:pt x="1217" y="290"/>
                  </a:lnTo>
                  <a:lnTo>
                    <a:pt x="1217" y="290"/>
                  </a:lnTo>
                  <a:lnTo>
                    <a:pt x="1199" y="291"/>
                  </a:lnTo>
                  <a:lnTo>
                    <a:pt x="1199" y="291"/>
                  </a:lnTo>
                  <a:lnTo>
                    <a:pt x="1179" y="293"/>
                  </a:lnTo>
                  <a:lnTo>
                    <a:pt x="1179" y="293"/>
                  </a:lnTo>
                  <a:lnTo>
                    <a:pt x="1160" y="295"/>
                  </a:lnTo>
                  <a:lnTo>
                    <a:pt x="1140" y="296"/>
                  </a:lnTo>
                  <a:lnTo>
                    <a:pt x="1140" y="296"/>
                  </a:lnTo>
                  <a:lnTo>
                    <a:pt x="1122" y="298"/>
                  </a:lnTo>
                  <a:lnTo>
                    <a:pt x="1122" y="298"/>
                  </a:lnTo>
                  <a:lnTo>
                    <a:pt x="1102" y="299"/>
                  </a:lnTo>
                  <a:lnTo>
                    <a:pt x="1102" y="299"/>
                  </a:lnTo>
                  <a:lnTo>
                    <a:pt x="1082" y="300"/>
                  </a:lnTo>
                  <a:lnTo>
                    <a:pt x="1082" y="300"/>
                  </a:lnTo>
                  <a:lnTo>
                    <a:pt x="1062" y="301"/>
                  </a:lnTo>
                  <a:lnTo>
                    <a:pt x="1062" y="301"/>
                  </a:lnTo>
                  <a:lnTo>
                    <a:pt x="1043" y="302"/>
                  </a:lnTo>
                  <a:lnTo>
                    <a:pt x="1023" y="303"/>
                  </a:lnTo>
                  <a:lnTo>
                    <a:pt x="1023" y="303"/>
                  </a:lnTo>
                  <a:lnTo>
                    <a:pt x="1003" y="304"/>
                  </a:lnTo>
                  <a:lnTo>
                    <a:pt x="1003" y="304"/>
                  </a:lnTo>
                  <a:lnTo>
                    <a:pt x="983" y="304"/>
                  </a:lnTo>
                  <a:lnTo>
                    <a:pt x="983" y="304"/>
                  </a:lnTo>
                  <a:lnTo>
                    <a:pt x="963" y="305"/>
                  </a:lnTo>
                  <a:lnTo>
                    <a:pt x="963" y="305"/>
                  </a:lnTo>
                  <a:lnTo>
                    <a:pt x="943" y="305"/>
                  </a:lnTo>
                  <a:lnTo>
                    <a:pt x="943" y="305"/>
                  </a:lnTo>
                  <a:lnTo>
                    <a:pt x="923" y="306"/>
                  </a:lnTo>
                  <a:lnTo>
                    <a:pt x="903" y="306"/>
                  </a:lnTo>
                  <a:lnTo>
                    <a:pt x="903" y="306"/>
                  </a:lnTo>
                  <a:lnTo>
                    <a:pt x="883" y="307"/>
                  </a:lnTo>
                  <a:lnTo>
                    <a:pt x="883" y="307"/>
                  </a:lnTo>
                  <a:lnTo>
                    <a:pt x="862" y="307"/>
                  </a:lnTo>
                  <a:lnTo>
                    <a:pt x="862" y="307"/>
                  </a:lnTo>
                  <a:lnTo>
                    <a:pt x="843" y="307"/>
                  </a:lnTo>
                  <a:lnTo>
                    <a:pt x="843" y="307"/>
                  </a:lnTo>
                  <a:lnTo>
                    <a:pt x="822" y="307"/>
                  </a:lnTo>
                  <a:lnTo>
                    <a:pt x="802" y="307"/>
                  </a:lnTo>
                  <a:lnTo>
                    <a:pt x="802" y="307"/>
                  </a:lnTo>
                  <a:lnTo>
                    <a:pt x="782" y="306"/>
                  </a:lnTo>
                  <a:lnTo>
                    <a:pt x="782" y="306"/>
                  </a:lnTo>
                  <a:lnTo>
                    <a:pt x="762" y="306"/>
                  </a:lnTo>
                  <a:lnTo>
                    <a:pt x="762" y="306"/>
                  </a:lnTo>
                  <a:lnTo>
                    <a:pt x="742" y="305"/>
                  </a:lnTo>
                  <a:lnTo>
                    <a:pt x="742" y="305"/>
                  </a:lnTo>
                  <a:lnTo>
                    <a:pt x="722" y="305"/>
                  </a:lnTo>
                  <a:lnTo>
                    <a:pt x="722" y="305"/>
                  </a:lnTo>
                  <a:lnTo>
                    <a:pt x="702" y="304"/>
                  </a:lnTo>
                  <a:lnTo>
                    <a:pt x="682" y="304"/>
                  </a:lnTo>
                  <a:lnTo>
                    <a:pt x="682" y="304"/>
                  </a:lnTo>
                  <a:lnTo>
                    <a:pt x="663" y="303"/>
                  </a:lnTo>
                  <a:lnTo>
                    <a:pt x="663" y="303"/>
                  </a:lnTo>
                  <a:lnTo>
                    <a:pt x="643" y="302"/>
                  </a:lnTo>
                  <a:lnTo>
                    <a:pt x="643" y="302"/>
                  </a:lnTo>
                  <a:lnTo>
                    <a:pt x="623" y="301"/>
                  </a:lnTo>
                  <a:lnTo>
                    <a:pt x="623" y="301"/>
                  </a:lnTo>
                  <a:lnTo>
                    <a:pt x="603" y="300"/>
                  </a:lnTo>
                  <a:lnTo>
                    <a:pt x="603" y="300"/>
                  </a:lnTo>
                  <a:lnTo>
                    <a:pt x="584" y="299"/>
                  </a:lnTo>
                  <a:lnTo>
                    <a:pt x="564" y="298"/>
                  </a:lnTo>
                  <a:lnTo>
                    <a:pt x="564" y="298"/>
                  </a:lnTo>
                  <a:lnTo>
                    <a:pt x="544" y="296"/>
                  </a:lnTo>
                  <a:lnTo>
                    <a:pt x="544" y="296"/>
                  </a:lnTo>
                  <a:lnTo>
                    <a:pt x="525" y="295"/>
                  </a:lnTo>
                  <a:lnTo>
                    <a:pt x="525" y="295"/>
                  </a:lnTo>
                  <a:lnTo>
                    <a:pt x="506" y="293"/>
                  </a:lnTo>
                  <a:lnTo>
                    <a:pt x="506" y="293"/>
                  </a:lnTo>
                  <a:lnTo>
                    <a:pt x="487" y="291"/>
                  </a:lnTo>
                  <a:lnTo>
                    <a:pt x="467" y="290"/>
                  </a:lnTo>
                  <a:lnTo>
                    <a:pt x="467" y="290"/>
                  </a:lnTo>
                  <a:lnTo>
                    <a:pt x="448" y="289"/>
                  </a:lnTo>
                  <a:lnTo>
                    <a:pt x="448" y="289"/>
                  </a:lnTo>
                  <a:lnTo>
                    <a:pt x="430" y="287"/>
                  </a:lnTo>
                  <a:lnTo>
                    <a:pt x="430" y="287"/>
                  </a:lnTo>
                  <a:lnTo>
                    <a:pt x="411" y="285"/>
                  </a:lnTo>
                  <a:lnTo>
                    <a:pt x="411" y="285"/>
                  </a:lnTo>
                  <a:lnTo>
                    <a:pt x="393" y="282"/>
                  </a:lnTo>
                  <a:lnTo>
                    <a:pt x="393" y="282"/>
                  </a:lnTo>
                  <a:lnTo>
                    <a:pt x="374" y="280"/>
                  </a:lnTo>
                  <a:lnTo>
                    <a:pt x="356" y="278"/>
                  </a:lnTo>
                  <a:lnTo>
                    <a:pt x="356" y="278"/>
                  </a:lnTo>
                  <a:lnTo>
                    <a:pt x="337" y="276"/>
                  </a:lnTo>
                  <a:lnTo>
                    <a:pt x="337" y="276"/>
                  </a:lnTo>
                  <a:lnTo>
                    <a:pt x="319" y="274"/>
                  </a:lnTo>
                  <a:lnTo>
                    <a:pt x="319" y="274"/>
                  </a:lnTo>
                  <a:lnTo>
                    <a:pt x="301" y="271"/>
                  </a:lnTo>
                  <a:lnTo>
                    <a:pt x="301" y="271"/>
                  </a:lnTo>
                  <a:lnTo>
                    <a:pt x="284" y="268"/>
                  </a:lnTo>
                  <a:lnTo>
                    <a:pt x="284" y="268"/>
                  </a:lnTo>
                  <a:lnTo>
                    <a:pt x="266" y="266"/>
                  </a:lnTo>
                  <a:lnTo>
                    <a:pt x="249" y="263"/>
                  </a:lnTo>
                  <a:lnTo>
                    <a:pt x="249" y="263"/>
                  </a:lnTo>
                  <a:lnTo>
                    <a:pt x="232" y="260"/>
                  </a:lnTo>
                  <a:lnTo>
                    <a:pt x="232" y="260"/>
                  </a:lnTo>
                  <a:lnTo>
                    <a:pt x="215" y="257"/>
                  </a:lnTo>
                  <a:lnTo>
                    <a:pt x="215" y="257"/>
                  </a:lnTo>
                  <a:lnTo>
                    <a:pt x="198" y="254"/>
                  </a:lnTo>
                  <a:lnTo>
                    <a:pt x="198" y="254"/>
                  </a:lnTo>
                  <a:lnTo>
                    <a:pt x="182" y="252"/>
                  </a:lnTo>
                  <a:lnTo>
                    <a:pt x="182" y="252"/>
                  </a:lnTo>
                  <a:lnTo>
                    <a:pt x="165" y="248"/>
                  </a:lnTo>
                  <a:lnTo>
                    <a:pt x="149" y="245"/>
                  </a:lnTo>
                  <a:lnTo>
                    <a:pt x="149" y="245"/>
                  </a:lnTo>
                  <a:lnTo>
                    <a:pt x="134" y="242"/>
                  </a:lnTo>
                  <a:lnTo>
                    <a:pt x="134" y="242"/>
                  </a:lnTo>
                  <a:lnTo>
                    <a:pt x="118" y="239"/>
                  </a:lnTo>
                  <a:lnTo>
                    <a:pt x="118" y="239"/>
                  </a:lnTo>
                  <a:lnTo>
                    <a:pt x="102" y="235"/>
                  </a:lnTo>
                  <a:lnTo>
                    <a:pt x="102" y="235"/>
                  </a:lnTo>
                  <a:lnTo>
                    <a:pt x="87" y="231"/>
                  </a:lnTo>
                  <a:lnTo>
                    <a:pt x="72" y="228"/>
                  </a:lnTo>
                  <a:lnTo>
                    <a:pt x="72" y="228"/>
                  </a:lnTo>
                  <a:lnTo>
                    <a:pt x="57" y="224"/>
                  </a:lnTo>
                  <a:lnTo>
                    <a:pt x="57" y="224"/>
                  </a:lnTo>
                  <a:lnTo>
                    <a:pt x="42" y="220"/>
                  </a:lnTo>
                  <a:lnTo>
                    <a:pt x="42" y="220"/>
                  </a:lnTo>
                  <a:lnTo>
                    <a:pt x="28" y="217"/>
                  </a:lnTo>
                  <a:lnTo>
                    <a:pt x="28" y="217"/>
                  </a:lnTo>
                  <a:lnTo>
                    <a:pt x="14" y="213"/>
                  </a:lnTo>
                  <a:lnTo>
                    <a:pt x="14" y="213"/>
                  </a:lnTo>
                  <a:lnTo>
                    <a:pt x="0" y="209"/>
                  </a:lnTo>
                  <a:lnTo>
                    <a:pt x="0" y="536"/>
                  </a:lnTo>
                  <a:lnTo>
                    <a:pt x="14" y="539"/>
                  </a:lnTo>
                  <a:lnTo>
                    <a:pt x="14" y="539"/>
                  </a:lnTo>
                  <a:lnTo>
                    <a:pt x="28" y="543"/>
                  </a:lnTo>
                  <a:lnTo>
                    <a:pt x="28" y="543"/>
                  </a:lnTo>
                  <a:lnTo>
                    <a:pt x="42" y="547"/>
                  </a:lnTo>
                  <a:lnTo>
                    <a:pt x="42" y="547"/>
                  </a:lnTo>
                  <a:lnTo>
                    <a:pt x="57" y="550"/>
                  </a:lnTo>
                  <a:lnTo>
                    <a:pt x="57" y="550"/>
                  </a:lnTo>
                  <a:lnTo>
                    <a:pt x="72" y="554"/>
                  </a:lnTo>
                  <a:lnTo>
                    <a:pt x="72" y="554"/>
                  </a:lnTo>
                  <a:lnTo>
                    <a:pt x="87" y="558"/>
                  </a:lnTo>
                  <a:lnTo>
                    <a:pt x="102" y="561"/>
                  </a:lnTo>
                  <a:lnTo>
                    <a:pt x="102" y="561"/>
                  </a:lnTo>
                  <a:lnTo>
                    <a:pt x="118" y="565"/>
                  </a:lnTo>
                  <a:lnTo>
                    <a:pt x="118" y="565"/>
                  </a:lnTo>
                  <a:lnTo>
                    <a:pt x="134" y="568"/>
                  </a:lnTo>
                  <a:lnTo>
                    <a:pt x="134" y="568"/>
                  </a:lnTo>
                  <a:lnTo>
                    <a:pt x="149" y="572"/>
                  </a:lnTo>
                  <a:lnTo>
                    <a:pt x="149" y="572"/>
                  </a:lnTo>
                  <a:lnTo>
                    <a:pt x="165" y="574"/>
                  </a:lnTo>
                  <a:lnTo>
                    <a:pt x="182" y="578"/>
                  </a:lnTo>
                  <a:lnTo>
                    <a:pt x="182" y="578"/>
                  </a:lnTo>
                  <a:lnTo>
                    <a:pt x="198" y="581"/>
                  </a:lnTo>
                  <a:lnTo>
                    <a:pt x="198" y="581"/>
                  </a:lnTo>
                  <a:lnTo>
                    <a:pt x="215" y="583"/>
                  </a:lnTo>
                  <a:lnTo>
                    <a:pt x="215" y="583"/>
                  </a:lnTo>
                  <a:lnTo>
                    <a:pt x="232" y="586"/>
                  </a:lnTo>
                  <a:lnTo>
                    <a:pt x="232" y="586"/>
                  </a:lnTo>
                  <a:lnTo>
                    <a:pt x="249" y="589"/>
                  </a:lnTo>
                  <a:lnTo>
                    <a:pt x="249" y="589"/>
                  </a:lnTo>
                  <a:lnTo>
                    <a:pt x="266" y="592"/>
                  </a:lnTo>
                  <a:lnTo>
                    <a:pt x="284" y="595"/>
                  </a:lnTo>
                  <a:lnTo>
                    <a:pt x="284" y="595"/>
                  </a:lnTo>
                  <a:lnTo>
                    <a:pt x="301" y="597"/>
                  </a:lnTo>
                  <a:lnTo>
                    <a:pt x="301" y="597"/>
                  </a:lnTo>
                  <a:lnTo>
                    <a:pt x="319" y="600"/>
                  </a:lnTo>
                  <a:lnTo>
                    <a:pt x="319" y="600"/>
                  </a:lnTo>
                  <a:lnTo>
                    <a:pt x="337" y="602"/>
                  </a:lnTo>
                  <a:lnTo>
                    <a:pt x="337" y="602"/>
                  </a:lnTo>
                  <a:lnTo>
                    <a:pt x="356" y="605"/>
                  </a:lnTo>
                  <a:lnTo>
                    <a:pt x="356" y="605"/>
                  </a:lnTo>
                  <a:lnTo>
                    <a:pt x="374" y="607"/>
                  </a:lnTo>
                  <a:lnTo>
                    <a:pt x="393" y="608"/>
                  </a:lnTo>
                  <a:lnTo>
                    <a:pt x="393" y="608"/>
                  </a:lnTo>
                  <a:lnTo>
                    <a:pt x="411" y="611"/>
                  </a:lnTo>
                  <a:lnTo>
                    <a:pt x="411" y="611"/>
                  </a:lnTo>
                  <a:lnTo>
                    <a:pt x="430" y="613"/>
                  </a:lnTo>
                  <a:lnTo>
                    <a:pt x="430" y="613"/>
                  </a:lnTo>
                  <a:lnTo>
                    <a:pt x="448" y="615"/>
                  </a:lnTo>
                  <a:lnTo>
                    <a:pt x="448" y="615"/>
                  </a:lnTo>
                  <a:lnTo>
                    <a:pt x="467" y="617"/>
                  </a:lnTo>
                  <a:lnTo>
                    <a:pt x="467" y="617"/>
                  </a:lnTo>
                  <a:lnTo>
                    <a:pt x="487" y="618"/>
                  </a:lnTo>
                  <a:lnTo>
                    <a:pt x="506" y="619"/>
                  </a:lnTo>
                  <a:lnTo>
                    <a:pt x="506" y="619"/>
                  </a:lnTo>
                  <a:lnTo>
                    <a:pt x="525" y="621"/>
                  </a:lnTo>
                  <a:lnTo>
                    <a:pt x="525" y="621"/>
                  </a:lnTo>
                  <a:lnTo>
                    <a:pt x="544" y="622"/>
                  </a:lnTo>
                  <a:lnTo>
                    <a:pt x="544" y="622"/>
                  </a:lnTo>
                  <a:lnTo>
                    <a:pt x="564" y="624"/>
                  </a:lnTo>
                  <a:lnTo>
                    <a:pt x="564" y="624"/>
                  </a:lnTo>
                  <a:lnTo>
                    <a:pt x="584" y="625"/>
                  </a:lnTo>
                  <a:lnTo>
                    <a:pt x="603" y="626"/>
                  </a:lnTo>
                  <a:lnTo>
                    <a:pt x="603" y="626"/>
                  </a:lnTo>
                  <a:lnTo>
                    <a:pt x="623" y="628"/>
                  </a:lnTo>
                  <a:lnTo>
                    <a:pt x="623" y="628"/>
                  </a:lnTo>
                  <a:lnTo>
                    <a:pt x="643" y="629"/>
                  </a:lnTo>
                  <a:lnTo>
                    <a:pt x="643" y="629"/>
                  </a:lnTo>
                  <a:lnTo>
                    <a:pt x="663" y="630"/>
                  </a:lnTo>
                  <a:lnTo>
                    <a:pt x="663" y="630"/>
                  </a:lnTo>
                  <a:lnTo>
                    <a:pt x="682" y="630"/>
                  </a:lnTo>
                  <a:lnTo>
                    <a:pt x="682" y="630"/>
                  </a:lnTo>
                  <a:lnTo>
                    <a:pt x="702" y="630"/>
                  </a:lnTo>
                  <a:lnTo>
                    <a:pt x="722" y="631"/>
                  </a:lnTo>
                  <a:lnTo>
                    <a:pt x="722" y="631"/>
                  </a:lnTo>
                  <a:lnTo>
                    <a:pt x="742" y="631"/>
                  </a:lnTo>
                  <a:lnTo>
                    <a:pt x="742" y="631"/>
                  </a:lnTo>
                  <a:lnTo>
                    <a:pt x="762" y="632"/>
                  </a:lnTo>
                  <a:lnTo>
                    <a:pt x="762" y="632"/>
                  </a:lnTo>
                  <a:lnTo>
                    <a:pt x="782" y="632"/>
                  </a:lnTo>
                  <a:lnTo>
                    <a:pt x="782" y="632"/>
                  </a:lnTo>
                  <a:lnTo>
                    <a:pt x="802" y="633"/>
                  </a:lnTo>
                  <a:lnTo>
                    <a:pt x="802" y="633"/>
                  </a:lnTo>
                  <a:lnTo>
                    <a:pt x="822" y="633"/>
                  </a:lnTo>
                  <a:lnTo>
                    <a:pt x="843" y="633"/>
                  </a:lnTo>
                  <a:lnTo>
                    <a:pt x="843" y="633"/>
                  </a:lnTo>
                  <a:lnTo>
                    <a:pt x="862" y="633"/>
                  </a:lnTo>
                  <a:lnTo>
                    <a:pt x="862" y="633"/>
                  </a:lnTo>
                  <a:lnTo>
                    <a:pt x="883" y="633"/>
                  </a:lnTo>
                  <a:lnTo>
                    <a:pt x="883" y="633"/>
                  </a:lnTo>
                  <a:lnTo>
                    <a:pt x="903" y="632"/>
                  </a:lnTo>
                  <a:lnTo>
                    <a:pt x="903" y="632"/>
                  </a:lnTo>
                  <a:lnTo>
                    <a:pt x="923" y="632"/>
                  </a:lnTo>
                  <a:lnTo>
                    <a:pt x="943" y="631"/>
                  </a:lnTo>
                  <a:lnTo>
                    <a:pt x="943" y="631"/>
                  </a:lnTo>
                  <a:lnTo>
                    <a:pt x="963" y="631"/>
                  </a:lnTo>
                  <a:lnTo>
                    <a:pt x="963" y="631"/>
                  </a:lnTo>
                  <a:lnTo>
                    <a:pt x="983" y="630"/>
                  </a:lnTo>
                  <a:lnTo>
                    <a:pt x="983" y="630"/>
                  </a:lnTo>
                  <a:lnTo>
                    <a:pt x="1003" y="630"/>
                  </a:lnTo>
                  <a:lnTo>
                    <a:pt x="1003" y="630"/>
                  </a:lnTo>
                  <a:lnTo>
                    <a:pt x="1023" y="630"/>
                  </a:lnTo>
                  <a:lnTo>
                    <a:pt x="1023" y="630"/>
                  </a:lnTo>
                  <a:lnTo>
                    <a:pt x="1043" y="629"/>
                  </a:lnTo>
                  <a:lnTo>
                    <a:pt x="1062" y="628"/>
                  </a:lnTo>
                  <a:lnTo>
                    <a:pt x="1062" y="628"/>
                  </a:lnTo>
                  <a:lnTo>
                    <a:pt x="1082" y="626"/>
                  </a:lnTo>
                  <a:lnTo>
                    <a:pt x="1082" y="626"/>
                  </a:lnTo>
                  <a:lnTo>
                    <a:pt x="1102" y="625"/>
                  </a:lnTo>
                  <a:lnTo>
                    <a:pt x="1102" y="625"/>
                  </a:lnTo>
                  <a:lnTo>
                    <a:pt x="1122" y="624"/>
                  </a:lnTo>
                  <a:lnTo>
                    <a:pt x="1122" y="624"/>
                  </a:lnTo>
                  <a:lnTo>
                    <a:pt x="1140" y="622"/>
                  </a:lnTo>
                  <a:lnTo>
                    <a:pt x="1140" y="622"/>
                  </a:lnTo>
                  <a:lnTo>
                    <a:pt x="1160" y="621"/>
                  </a:lnTo>
                  <a:lnTo>
                    <a:pt x="1179" y="619"/>
                  </a:lnTo>
                  <a:lnTo>
                    <a:pt x="1179" y="619"/>
                  </a:lnTo>
                  <a:lnTo>
                    <a:pt x="1199" y="618"/>
                  </a:lnTo>
                  <a:lnTo>
                    <a:pt x="1199" y="618"/>
                  </a:lnTo>
                  <a:lnTo>
                    <a:pt x="1217" y="617"/>
                  </a:lnTo>
                  <a:lnTo>
                    <a:pt x="1217" y="617"/>
                  </a:lnTo>
                  <a:lnTo>
                    <a:pt x="1236" y="615"/>
                  </a:lnTo>
                  <a:lnTo>
                    <a:pt x="1236" y="615"/>
                  </a:lnTo>
                  <a:lnTo>
                    <a:pt x="1255" y="613"/>
                  </a:lnTo>
                  <a:lnTo>
                    <a:pt x="1255" y="613"/>
                  </a:lnTo>
                  <a:lnTo>
                    <a:pt x="1274" y="611"/>
                  </a:lnTo>
                  <a:lnTo>
                    <a:pt x="1293" y="608"/>
                  </a:lnTo>
                  <a:lnTo>
                    <a:pt x="1293" y="608"/>
                  </a:lnTo>
                  <a:lnTo>
                    <a:pt x="1311" y="607"/>
                  </a:lnTo>
                  <a:lnTo>
                    <a:pt x="1311" y="607"/>
                  </a:lnTo>
                  <a:lnTo>
                    <a:pt x="1329" y="605"/>
                  </a:lnTo>
                  <a:lnTo>
                    <a:pt x="1329" y="605"/>
                  </a:lnTo>
                  <a:lnTo>
                    <a:pt x="1347" y="602"/>
                  </a:lnTo>
                  <a:lnTo>
                    <a:pt x="1347" y="602"/>
                  </a:lnTo>
                  <a:lnTo>
                    <a:pt x="1365" y="600"/>
                  </a:lnTo>
                  <a:lnTo>
                    <a:pt x="1383" y="597"/>
                  </a:lnTo>
                  <a:lnTo>
                    <a:pt x="1383" y="597"/>
                  </a:lnTo>
                  <a:lnTo>
                    <a:pt x="1401" y="595"/>
                  </a:lnTo>
                  <a:lnTo>
                    <a:pt x="1401" y="595"/>
                  </a:lnTo>
                  <a:lnTo>
                    <a:pt x="1418" y="592"/>
                  </a:lnTo>
                  <a:lnTo>
                    <a:pt x="1418" y="592"/>
                  </a:lnTo>
                  <a:lnTo>
                    <a:pt x="1436" y="589"/>
                  </a:lnTo>
                  <a:lnTo>
                    <a:pt x="1436" y="589"/>
                  </a:lnTo>
                  <a:lnTo>
                    <a:pt x="1453" y="586"/>
                  </a:lnTo>
                  <a:lnTo>
                    <a:pt x="1453" y="586"/>
                  </a:lnTo>
                  <a:lnTo>
                    <a:pt x="1470" y="583"/>
                  </a:lnTo>
                  <a:lnTo>
                    <a:pt x="1486" y="581"/>
                  </a:lnTo>
                  <a:lnTo>
                    <a:pt x="1486" y="581"/>
                  </a:lnTo>
                  <a:lnTo>
                    <a:pt x="1503" y="578"/>
                  </a:lnTo>
                  <a:lnTo>
                    <a:pt x="1503" y="578"/>
                  </a:lnTo>
                  <a:lnTo>
                    <a:pt x="1520" y="574"/>
                  </a:lnTo>
                  <a:lnTo>
                    <a:pt x="1520" y="574"/>
                  </a:lnTo>
                  <a:lnTo>
                    <a:pt x="1536" y="572"/>
                  </a:lnTo>
                  <a:lnTo>
                    <a:pt x="1536" y="572"/>
                  </a:lnTo>
                  <a:lnTo>
                    <a:pt x="1552" y="568"/>
                  </a:lnTo>
                  <a:lnTo>
                    <a:pt x="1552" y="568"/>
                  </a:lnTo>
                  <a:lnTo>
                    <a:pt x="1567" y="565"/>
                  </a:lnTo>
                  <a:lnTo>
                    <a:pt x="1583" y="561"/>
                  </a:lnTo>
                  <a:lnTo>
                    <a:pt x="1583" y="561"/>
                  </a:lnTo>
                  <a:lnTo>
                    <a:pt x="1598" y="558"/>
                  </a:lnTo>
                  <a:lnTo>
                    <a:pt x="1598" y="558"/>
                  </a:lnTo>
                  <a:lnTo>
                    <a:pt x="1614" y="554"/>
                  </a:lnTo>
                  <a:lnTo>
                    <a:pt x="1614" y="554"/>
                  </a:lnTo>
                  <a:lnTo>
                    <a:pt x="1628" y="550"/>
                  </a:lnTo>
                  <a:lnTo>
                    <a:pt x="1628" y="550"/>
                  </a:lnTo>
                  <a:lnTo>
                    <a:pt x="1642" y="547"/>
                  </a:lnTo>
                  <a:lnTo>
                    <a:pt x="1657" y="543"/>
                  </a:lnTo>
                  <a:lnTo>
                    <a:pt x="1657" y="543"/>
                  </a:lnTo>
                  <a:lnTo>
                    <a:pt x="1671" y="539"/>
                  </a:lnTo>
                  <a:lnTo>
                    <a:pt x="1671" y="539"/>
                  </a:lnTo>
                  <a:lnTo>
                    <a:pt x="1685" y="536"/>
                  </a:lnTo>
                  <a:lnTo>
                    <a:pt x="1685" y="536"/>
                  </a:lnTo>
                  <a:lnTo>
                    <a:pt x="1699" y="532"/>
                  </a:lnTo>
                  <a:lnTo>
                    <a:pt x="1699" y="532"/>
                  </a:lnTo>
                  <a:lnTo>
                    <a:pt x="1712" y="527"/>
                  </a:lnTo>
                  <a:lnTo>
                    <a:pt x="1712" y="527"/>
                  </a:lnTo>
                  <a:lnTo>
                    <a:pt x="1725" y="524"/>
                  </a:lnTo>
                  <a:lnTo>
                    <a:pt x="1737" y="519"/>
                  </a:lnTo>
                  <a:lnTo>
                    <a:pt x="1737" y="519"/>
                  </a:lnTo>
                  <a:lnTo>
                    <a:pt x="1750" y="515"/>
                  </a:lnTo>
                  <a:lnTo>
                    <a:pt x="1750" y="515"/>
                  </a:lnTo>
                  <a:lnTo>
                    <a:pt x="1762" y="511"/>
                  </a:lnTo>
                  <a:lnTo>
                    <a:pt x="1762" y="511"/>
                  </a:lnTo>
                  <a:lnTo>
                    <a:pt x="1774" y="507"/>
                  </a:lnTo>
                  <a:lnTo>
                    <a:pt x="1774" y="507"/>
                  </a:lnTo>
                  <a:lnTo>
                    <a:pt x="1786" y="502"/>
                  </a:lnTo>
                  <a:lnTo>
                    <a:pt x="1786" y="502"/>
                  </a:lnTo>
                  <a:lnTo>
                    <a:pt x="1797" y="498"/>
                  </a:lnTo>
                  <a:lnTo>
                    <a:pt x="1808" y="493"/>
                  </a:lnTo>
                  <a:lnTo>
                    <a:pt x="1808" y="493"/>
                  </a:lnTo>
                  <a:lnTo>
                    <a:pt x="1819" y="489"/>
                  </a:lnTo>
                  <a:lnTo>
                    <a:pt x="1819" y="489"/>
                  </a:lnTo>
                  <a:lnTo>
                    <a:pt x="1830" y="484"/>
                  </a:lnTo>
                  <a:lnTo>
                    <a:pt x="1830" y="484"/>
                  </a:lnTo>
                  <a:lnTo>
                    <a:pt x="1840" y="480"/>
                  </a:lnTo>
                  <a:lnTo>
                    <a:pt x="1840" y="480"/>
                  </a:lnTo>
                  <a:lnTo>
                    <a:pt x="1850" y="475"/>
                  </a:lnTo>
                  <a:lnTo>
                    <a:pt x="1859" y="470"/>
                  </a:lnTo>
                  <a:lnTo>
                    <a:pt x="1859" y="470"/>
                  </a:lnTo>
                  <a:lnTo>
                    <a:pt x="1869" y="466"/>
                  </a:lnTo>
                  <a:lnTo>
                    <a:pt x="1869" y="466"/>
                  </a:lnTo>
                  <a:lnTo>
                    <a:pt x="1878" y="461"/>
                  </a:lnTo>
                  <a:lnTo>
                    <a:pt x="1878" y="461"/>
                  </a:lnTo>
                  <a:lnTo>
                    <a:pt x="1886" y="456"/>
                  </a:lnTo>
                  <a:lnTo>
                    <a:pt x="1886" y="456"/>
                  </a:lnTo>
                  <a:lnTo>
                    <a:pt x="1895" y="451"/>
                  </a:lnTo>
                  <a:lnTo>
                    <a:pt x="1895" y="451"/>
                  </a:lnTo>
                  <a:lnTo>
                    <a:pt x="1903" y="446"/>
                  </a:lnTo>
                  <a:lnTo>
                    <a:pt x="1910" y="442"/>
                  </a:lnTo>
                  <a:lnTo>
                    <a:pt x="1910" y="442"/>
                  </a:lnTo>
                  <a:lnTo>
                    <a:pt x="1918" y="436"/>
                  </a:lnTo>
                  <a:lnTo>
                    <a:pt x="1918" y="436"/>
                  </a:lnTo>
                  <a:lnTo>
                    <a:pt x="1925" y="431"/>
                  </a:lnTo>
                  <a:lnTo>
                    <a:pt x="1925" y="431"/>
                  </a:lnTo>
                  <a:lnTo>
                    <a:pt x="1932" y="427"/>
                  </a:lnTo>
                  <a:lnTo>
                    <a:pt x="1932" y="427"/>
                  </a:lnTo>
                  <a:lnTo>
                    <a:pt x="1938" y="421"/>
                  </a:lnTo>
                  <a:lnTo>
                    <a:pt x="1938" y="421"/>
                  </a:lnTo>
                  <a:lnTo>
                    <a:pt x="1944" y="416"/>
                  </a:lnTo>
                  <a:lnTo>
                    <a:pt x="1950" y="411"/>
                  </a:lnTo>
                  <a:lnTo>
                    <a:pt x="1950" y="411"/>
                  </a:lnTo>
                  <a:lnTo>
                    <a:pt x="1955" y="406"/>
                  </a:lnTo>
                  <a:lnTo>
                    <a:pt x="1955" y="406"/>
                  </a:lnTo>
                  <a:lnTo>
                    <a:pt x="1961" y="401"/>
                  </a:lnTo>
                  <a:lnTo>
                    <a:pt x="1961" y="401"/>
                  </a:lnTo>
                  <a:lnTo>
                    <a:pt x="1965" y="395"/>
                  </a:lnTo>
                  <a:lnTo>
                    <a:pt x="1965" y="395"/>
                  </a:lnTo>
                  <a:lnTo>
                    <a:pt x="1970" y="390"/>
                  </a:lnTo>
                  <a:lnTo>
                    <a:pt x="1970" y="390"/>
                  </a:lnTo>
                  <a:lnTo>
                    <a:pt x="1973" y="385"/>
                  </a:lnTo>
                  <a:lnTo>
                    <a:pt x="1977" y="380"/>
                  </a:lnTo>
                  <a:lnTo>
                    <a:pt x="1977" y="380"/>
                  </a:lnTo>
                  <a:lnTo>
                    <a:pt x="1980" y="374"/>
                  </a:lnTo>
                  <a:lnTo>
                    <a:pt x="1980" y="374"/>
                  </a:lnTo>
                  <a:lnTo>
                    <a:pt x="1983" y="370"/>
                  </a:lnTo>
                  <a:lnTo>
                    <a:pt x="1983" y="370"/>
                  </a:lnTo>
                  <a:lnTo>
                    <a:pt x="1986" y="364"/>
                  </a:lnTo>
                  <a:lnTo>
                    <a:pt x="1986" y="364"/>
                  </a:lnTo>
                  <a:lnTo>
                    <a:pt x="1988" y="359"/>
                  </a:lnTo>
                  <a:lnTo>
                    <a:pt x="1990" y="353"/>
                  </a:lnTo>
                  <a:lnTo>
                    <a:pt x="1990" y="353"/>
                  </a:lnTo>
                  <a:lnTo>
                    <a:pt x="1992" y="348"/>
                  </a:lnTo>
                  <a:lnTo>
                    <a:pt x="1992" y="348"/>
                  </a:lnTo>
                  <a:lnTo>
                    <a:pt x="1993" y="343"/>
                  </a:lnTo>
                  <a:lnTo>
                    <a:pt x="1993" y="343"/>
                  </a:lnTo>
                  <a:lnTo>
                    <a:pt x="1994" y="337"/>
                  </a:lnTo>
                  <a:lnTo>
                    <a:pt x="1994" y="337"/>
                  </a:lnTo>
                  <a:lnTo>
                    <a:pt x="1995" y="332"/>
                  </a:lnTo>
                  <a:lnTo>
                    <a:pt x="1995" y="332"/>
                  </a:lnTo>
                  <a:lnTo>
                    <a:pt x="1995" y="326"/>
                  </a:lnTo>
                  <a:lnTo>
                    <a:pt x="1995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22040" y="3341880"/>
              <a:ext cx="3286080" cy="1137600"/>
            </a:xfrm>
            <a:custGeom>
              <a:avLst/>
              <a:gdLst/>
              <a:ahLst/>
              <a:rect l="l" t="t" r="r" b="b"/>
              <a:pathLst>
                <a:path w="1995" h="613">
                  <a:moveTo>
                    <a:pt x="843" y="0"/>
                  </a:moveTo>
                  <a:lnTo>
                    <a:pt x="843" y="0"/>
                  </a:lnTo>
                  <a:lnTo>
                    <a:pt x="862" y="0"/>
                  </a:lnTo>
                  <a:lnTo>
                    <a:pt x="862" y="0"/>
                  </a:lnTo>
                  <a:lnTo>
                    <a:pt x="883" y="0"/>
                  </a:lnTo>
                  <a:lnTo>
                    <a:pt x="883" y="0"/>
                  </a:lnTo>
                  <a:lnTo>
                    <a:pt x="903" y="0"/>
                  </a:lnTo>
                  <a:lnTo>
                    <a:pt x="903" y="0"/>
                  </a:lnTo>
                  <a:lnTo>
                    <a:pt x="923" y="1"/>
                  </a:lnTo>
                  <a:lnTo>
                    <a:pt x="923" y="1"/>
                  </a:lnTo>
                  <a:lnTo>
                    <a:pt x="943" y="1"/>
                  </a:lnTo>
                  <a:lnTo>
                    <a:pt x="943" y="1"/>
                  </a:lnTo>
                  <a:lnTo>
                    <a:pt x="943" y="1"/>
                  </a:lnTo>
                  <a:lnTo>
                    <a:pt x="963" y="2"/>
                  </a:lnTo>
                  <a:lnTo>
                    <a:pt x="963" y="2"/>
                  </a:lnTo>
                  <a:lnTo>
                    <a:pt x="983" y="2"/>
                  </a:lnTo>
                  <a:lnTo>
                    <a:pt x="983" y="2"/>
                  </a:lnTo>
                  <a:lnTo>
                    <a:pt x="1003" y="3"/>
                  </a:lnTo>
                  <a:lnTo>
                    <a:pt x="1003" y="3"/>
                  </a:lnTo>
                  <a:lnTo>
                    <a:pt x="1023" y="4"/>
                  </a:lnTo>
                  <a:lnTo>
                    <a:pt x="1023" y="4"/>
                  </a:lnTo>
                  <a:lnTo>
                    <a:pt x="1043" y="5"/>
                  </a:lnTo>
                  <a:lnTo>
                    <a:pt x="1043" y="5"/>
                  </a:lnTo>
                  <a:lnTo>
                    <a:pt x="1043" y="5"/>
                  </a:lnTo>
                  <a:lnTo>
                    <a:pt x="1062" y="6"/>
                  </a:lnTo>
                  <a:lnTo>
                    <a:pt x="1062" y="6"/>
                  </a:lnTo>
                  <a:lnTo>
                    <a:pt x="1082" y="7"/>
                  </a:lnTo>
                  <a:lnTo>
                    <a:pt x="1082" y="7"/>
                  </a:lnTo>
                  <a:lnTo>
                    <a:pt x="1102" y="8"/>
                  </a:lnTo>
                  <a:lnTo>
                    <a:pt x="1102" y="8"/>
                  </a:lnTo>
                  <a:lnTo>
                    <a:pt x="1122" y="9"/>
                  </a:lnTo>
                  <a:lnTo>
                    <a:pt x="1122" y="9"/>
                  </a:lnTo>
                  <a:lnTo>
                    <a:pt x="1140" y="10"/>
                  </a:lnTo>
                  <a:lnTo>
                    <a:pt x="1140" y="10"/>
                  </a:lnTo>
                  <a:lnTo>
                    <a:pt x="1140" y="10"/>
                  </a:lnTo>
                  <a:lnTo>
                    <a:pt x="1160" y="12"/>
                  </a:lnTo>
                  <a:lnTo>
                    <a:pt x="1160" y="12"/>
                  </a:lnTo>
                  <a:lnTo>
                    <a:pt x="1179" y="13"/>
                  </a:lnTo>
                  <a:lnTo>
                    <a:pt x="1179" y="13"/>
                  </a:lnTo>
                  <a:lnTo>
                    <a:pt x="1199" y="15"/>
                  </a:lnTo>
                  <a:lnTo>
                    <a:pt x="1199" y="15"/>
                  </a:lnTo>
                  <a:lnTo>
                    <a:pt x="1217" y="17"/>
                  </a:lnTo>
                  <a:lnTo>
                    <a:pt x="1217" y="17"/>
                  </a:lnTo>
                  <a:lnTo>
                    <a:pt x="1236" y="19"/>
                  </a:lnTo>
                  <a:lnTo>
                    <a:pt x="1236" y="19"/>
                  </a:lnTo>
                  <a:lnTo>
                    <a:pt x="1236" y="19"/>
                  </a:lnTo>
                  <a:lnTo>
                    <a:pt x="1255" y="20"/>
                  </a:lnTo>
                  <a:lnTo>
                    <a:pt x="1255" y="20"/>
                  </a:lnTo>
                  <a:lnTo>
                    <a:pt x="1274" y="22"/>
                  </a:lnTo>
                  <a:lnTo>
                    <a:pt x="1274" y="22"/>
                  </a:lnTo>
                  <a:lnTo>
                    <a:pt x="1293" y="24"/>
                  </a:lnTo>
                  <a:lnTo>
                    <a:pt x="1293" y="24"/>
                  </a:lnTo>
                  <a:lnTo>
                    <a:pt x="1311" y="26"/>
                  </a:lnTo>
                  <a:lnTo>
                    <a:pt x="1311" y="26"/>
                  </a:lnTo>
                  <a:lnTo>
                    <a:pt x="1329" y="29"/>
                  </a:lnTo>
                  <a:lnTo>
                    <a:pt x="1329" y="29"/>
                  </a:lnTo>
                  <a:lnTo>
                    <a:pt x="1329" y="29"/>
                  </a:lnTo>
                  <a:lnTo>
                    <a:pt x="1347" y="31"/>
                  </a:lnTo>
                  <a:lnTo>
                    <a:pt x="1347" y="31"/>
                  </a:lnTo>
                  <a:lnTo>
                    <a:pt x="1365" y="33"/>
                  </a:lnTo>
                  <a:lnTo>
                    <a:pt x="1365" y="33"/>
                  </a:lnTo>
                  <a:lnTo>
                    <a:pt x="1383" y="36"/>
                  </a:lnTo>
                  <a:lnTo>
                    <a:pt x="1383" y="36"/>
                  </a:lnTo>
                  <a:lnTo>
                    <a:pt x="1401" y="38"/>
                  </a:lnTo>
                  <a:lnTo>
                    <a:pt x="1401" y="38"/>
                  </a:lnTo>
                  <a:lnTo>
                    <a:pt x="1418" y="41"/>
                  </a:lnTo>
                  <a:lnTo>
                    <a:pt x="1418" y="41"/>
                  </a:lnTo>
                  <a:lnTo>
                    <a:pt x="1418" y="41"/>
                  </a:lnTo>
                  <a:lnTo>
                    <a:pt x="1436" y="44"/>
                  </a:lnTo>
                  <a:lnTo>
                    <a:pt x="1436" y="44"/>
                  </a:lnTo>
                  <a:lnTo>
                    <a:pt x="1453" y="46"/>
                  </a:lnTo>
                  <a:lnTo>
                    <a:pt x="1453" y="46"/>
                  </a:lnTo>
                  <a:lnTo>
                    <a:pt x="1470" y="49"/>
                  </a:lnTo>
                  <a:lnTo>
                    <a:pt x="1470" y="49"/>
                  </a:lnTo>
                  <a:lnTo>
                    <a:pt x="1486" y="53"/>
                  </a:lnTo>
                  <a:lnTo>
                    <a:pt x="1486" y="53"/>
                  </a:lnTo>
                  <a:lnTo>
                    <a:pt x="1503" y="55"/>
                  </a:lnTo>
                  <a:lnTo>
                    <a:pt x="1503" y="55"/>
                  </a:lnTo>
                  <a:lnTo>
                    <a:pt x="1503" y="55"/>
                  </a:lnTo>
                  <a:lnTo>
                    <a:pt x="1520" y="58"/>
                  </a:lnTo>
                  <a:lnTo>
                    <a:pt x="1520" y="58"/>
                  </a:lnTo>
                  <a:lnTo>
                    <a:pt x="1536" y="62"/>
                  </a:lnTo>
                  <a:lnTo>
                    <a:pt x="1536" y="62"/>
                  </a:lnTo>
                  <a:lnTo>
                    <a:pt x="1552" y="65"/>
                  </a:lnTo>
                  <a:lnTo>
                    <a:pt x="1552" y="65"/>
                  </a:lnTo>
                  <a:lnTo>
                    <a:pt x="1567" y="68"/>
                  </a:lnTo>
                  <a:lnTo>
                    <a:pt x="1567" y="68"/>
                  </a:lnTo>
                  <a:lnTo>
                    <a:pt x="1567" y="68"/>
                  </a:lnTo>
                  <a:lnTo>
                    <a:pt x="1583" y="72"/>
                  </a:lnTo>
                  <a:lnTo>
                    <a:pt x="1583" y="72"/>
                  </a:lnTo>
                  <a:lnTo>
                    <a:pt x="1598" y="75"/>
                  </a:lnTo>
                  <a:lnTo>
                    <a:pt x="1598" y="75"/>
                  </a:lnTo>
                  <a:lnTo>
                    <a:pt x="1614" y="79"/>
                  </a:lnTo>
                  <a:lnTo>
                    <a:pt x="1614" y="79"/>
                  </a:lnTo>
                  <a:lnTo>
                    <a:pt x="1628" y="82"/>
                  </a:lnTo>
                  <a:lnTo>
                    <a:pt x="1628" y="82"/>
                  </a:lnTo>
                  <a:lnTo>
                    <a:pt x="1642" y="86"/>
                  </a:lnTo>
                  <a:lnTo>
                    <a:pt x="1642" y="86"/>
                  </a:lnTo>
                  <a:lnTo>
                    <a:pt x="1642" y="86"/>
                  </a:lnTo>
                  <a:lnTo>
                    <a:pt x="1657" y="90"/>
                  </a:lnTo>
                  <a:lnTo>
                    <a:pt x="1657" y="90"/>
                  </a:lnTo>
                  <a:lnTo>
                    <a:pt x="1671" y="93"/>
                  </a:lnTo>
                  <a:lnTo>
                    <a:pt x="1671" y="93"/>
                  </a:lnTo>
                  <a:lnTo>
                    <a:pt x="1685" y="97"/>
                  </a:lnTo>
                  <a:lnTo>
                    <a:pt x="1685" y="97"/>
                  </a:lnTo>
                  <a:lnTo>
                    <a:pt x="1699" y="102"/>
                  </a:lnTo>
                  <a:lnTo>
                    <a:pt x="1699" y="102"/>
                  </a:lnTo>
                  <a:lnTo>
                    <a:pt x="1712" y="105"/>
                  </a:lnTo>
                  <a:lnTo>
                    <a:pt x="1712" y="105"/>
                  </a:lnTo>
                  <a:lnTo>
                    <a:pt x="1712" y="105"/>
                  </a:lnTo>
                  <a:lnTo>
                    <a:pt x="1725" y="110"/>
                  </a:lnTo>
                  <a:lnTo>
                    <a:pt x="1725" y="110"/>
                  </a:lnTo>
                  <a:lnTo>
                    <a:pt x="1737" y="114"/>
                  </a:lnTo>
                  <a:lnTo>
                    <a:pt x="1737" y="114"/>
                  </a:lnTo>
                  <a:lnTo>
                    <a:pt x="1750" y="118"/>
                  </a:lnTo>
                  <a:lnTo>
                    <a:pt x="1750" y="118"/>
                  </a:lnTo>
                  <a:lnTo>
                    <a:pt x="1762" y="122"/>
                  </a:lnTo>
                  <a:lnTo>
                    <a:pt x="1762" y="122"/>
                  </a:lnTo>
                  <a:lnTo>
                    <a:pt x="1774" y="126"/>
                  </a:lnTo>
                  <a:lnTo>
                    <a:pt x="1774" y="126"/>
                  </a:lnTo>
                  <a:lnTo>
                    <a:pt x="1774" y="126"/>
                  </a:lnTo>
                  <a:lnTo>
                    <a:pt x="1786" y="131"/>
                  </a:lnTo>
                  <a:lnTo>
                    <a:pt x="1786" y="131"/>
                  </a:lnTo>
                  <a:lnTo>
                    <a:pt x="1797" y="135"/>
                  </a:lnTo>
                  <a:lnTo>
                    <a:pt x="1797" y="135"/>
                  </a:lnTo>
                  <a:lnTo>
                    <a:pt x="1808" y="139"/>
                  </a:lnTo>
                  <a:lnTo>
                    <a:pt x="1808" y="139"/>
                  </a:lnTo>
                  <a:lnTo>
                    <a:pt x="1819" y="144"/>
                  </a:lnTo>
                  <a:lnTo>
                    <a:pt x="1819" y="144"/>
                  </a:lnTo>
                  <a:lnTo>
                    <a:pt x="1830" y="149"/>
                  </a:lnTo>
                  <a:lnTo>
                    <a:pt x="1830" y="149"/>
                  </a:lnTo>
                  <a:lnTo>
                    <a:pt x="1830" y="149"/>
                  </a:lnTo>
                  <a:lnTo>
                    <a:pt x="1840" y="153"/>
                  </a:lnTo>
                  <a:lnTo>
                    <a:pt x="1840" y="153"/>
                  </a:lnTo>
                  <a:lnTo>
                    <a:pt x="1850" y="158"/>
                  </a:lnTo>
                  <a:lnTo>
                    <a:pt x="1850" y="158"/>
                  </a:lnTo>
                  <a:lnTo>
                    <a:pt x="1859" y="162"/>
                  </a:lnTo>
                  <a:lnTo>
                    <a:pt x="1859" y="162"/>
                  </a:lnTo>
                  <a:lnTo>
                    <a:pt x="1869" y="167"/>
                  </a:lnTo>
                  <a:lnTo>
                    <a:pt x="1869" y="167"/>
                  </a:lnTo>
                  <a:lnTo>
                    <a:pt x="1878" y="172"/>
                  </a:lnTo>
                  <a:lnTo>
                    <a:pt x="1878" y="172"/>
                  </a:lnTo>
                  <a:lnTo>
                    <a:pt x="1878" y="172"/>
                  </a:lnTo>
                  <a:lnTo>
                    <a:pt x="1886" y="177"/>
                  </a:lnTo>
                  <a:lnTo>
                    <a:pt x="1886" y="177"/>
                  </a:lnTo>
                  <a:lnTo>
                    <a:pt x="1895" y="182"/>
                  </a:lnTo>
                  <a:lnTo>
                    <a:pt x="1895" y="182"/>
                  </a:lnTo>
                  <a:lnTo>
                    <a:pt x="1903" y="186"/>
                  </a:lnTo>
                  <a:lnTo>
                    <a:pt x="1903" y="186"/>
                  </a:lnTo>
                  <a:lnTo>
                    <a:pt x="1910" y="192"/>
                  </a:lnTo>
                  <a:lnTo>
                    <a:pt x="1910" y="192"/>
                  </a:lnTo>
                  <a:lnTo>
                    <a:pt x="1918" y="196"/>
                  </a:lnTo>
                  <a:lnTo>
                    <a:pt x="1918" y="196"/>
                  </a:lnTo>
                  <a:lnTo>
                    <a:pt x="1918" y="196"/>
                  </a:lnTo>
                  <a:lnTo>
                    <a:pt x="1925" y="202"/>
                  </a:lnTo>
                  <a:lnTo>
                    <a:pt x="1925" y="202"/>
                  </a:lnTo>
                  <a:lnTo>
                    <a:pt x="1932" y="207"/>
                  </a:lnTo>
                  <a:lnTo>
                    <a:pt x="1932" y="207"/>
                  </a:lnTo>
                  <a:lnTo>
                    <a:pt x="1938" y="211"/>
                  </a:lnTo>
                  <a:lnTo>
                    <a:pt x="1938" y="211"/>
                  </a:lnTo>
                  <a:lnTo>
                    <a:pt x="1944" y="217"/>
                  </a:lnTo>
                  <a:lnTo>
                    <a:pt x="1944" y="217"/>
                  </a:lnTo>
                  <a:lnTo>
                    <a:pt x="1950" y="222"/>
                  </a:lnTo>
                  <a:lnTo>
                    <a:pt x="1950" y="222"/>
                  </a:lnTo>
                  <a:lnTo>
                    <a:pt x="1950" y="222"/>
                  </a:lnTo>
                  <a:lnTo>
                    <a:pt x="1955" y="227"/>
                  </a:lnTo>
                  <a:lnTo>
                    <a:pt x="1955" y="227"/>
                  </a:lnTo>
                  <a:lnTo>
                    <a:pt x="1961" y="232"/>
                  </a:lnTo>
                  <a:lnTo>
                    <a:pt x="1961" y="232"/>
                  </a:lnTo>
                  <a:lnTo>
                    <a:pt x="1965" y="237"/>
                  </a:lnTo>
                  <a:lnTo>
                    <a:pt x="1965" y="237"/>
                  </a:lnTo>
                  <a:lnTo>
                    <a:pt x="1970" y="243"/>
                  </a:lnTo>
                  <a:lnTo>
                    <a:pt x="1970" y="243"/>
                  </a:lnTo>
                  <a:lnTo>
                    <a:pt x="1973" y="248"/>
                  </a:lnTo>
                  <a:lnTo>
                    <a:pt x="1973" y="248"/>
                  </a:lnTo>
                  <a:lnTo>
                    <a:pt x="1973" y="248"/>
                  </a:lnTo>
                  <a:lnTo>
                    <a:pt x="1977" y="254"/>
                  </a:lnTo>
                  <a:lnTo>
                    <a:pt x="1977" y="254"/>
                  </a:lnTo>
                  <a:lnTo>
                    <a:pt x="1980" y="258"/>
                  </a:lnTo>
                  <a:lnTo>
                    <a:pt x="1980" y="258"/>
                  </a:lnTo>
                  <a:lnTo>
                    <a:pt x="1983" y="264"/>
                  </a:lnTo>
                  <a:lnTo>
                    <a:pt x="1983" y="264"/>
                  </a:lnTo>
                  <a:lnTo>
                    <a:pt x="1986" y="269"/>
                  </a:lnTo>
                  <a:lnTo>
                    <a:pt x="1986" y="269"/>
                  </a:lnTo>
                  <a:lnTo>
                    <a:pt x="1988" y="274"/>
                  </a:lnTo>
                  <a:lnTo>
                    <a:pt x="1988" y="274"/>
                  </a:lnTo>
                  <a:lnTo>
                    <a:pt x="1988" y="274"/>
                  </a:lnTo>
                  <a:lnTo>
                    <a:pt x="1990" y="279"/>
                  </a:lnTo>
                  <a:lnTo>
                    <a:pt x="1990" y="279"/>
                  </a:lnTo>
                  <a:lnTo>
                    <a:pt x="1992" y="285"/>
                  </a:lnTo>
                  <a:lnTo>
                    <a:pt x="1992" y="285"/>
                  </a:lnTo>
                  <a:lnTo>
                    <a:pt x="1993" y="290"/>
                  </a:lnTo>
                  <a:lnTo>
                    <a:pt x="1993" y="290"/>
                  </a:lnTo>
                  <a:lnTo>
                    <a:pt x="1994" y="296"/>
                  </a:lnTo>
                  <a:lnTo>
                    <a:pt x="1994" y="296"/>
                  </a:lnTo>
                  <a:lnTo>
                    <a:pt x="1995" y="301"/>
                  </a:lnTo>
                  <a:lnTo>
                    <a:pt x="1995" y="301"/>
                  </a:lnTo>
                  <a:lnTo>
                    <a:pt x="1995" y="301"/>
                  </a:lnTo>
                  <a:lnTo>
                    <a:pt x="1995" y="306"/>
                  </a:lnTo>
                  <a:lnTo>
                    <a:pt x="1995" y="306"/>
                  </a:lnTo>
                  <a:lnTo>
                    <a:pt x="1995" y="312"/>
                  </a:lnTo>
                  <a:lnTo>
                    <a:pt x="1995" y="312"/>
                  </a:lnTo>
                  <a:lnTo>
                    <a:pt x="1994" y="317"/>
                  </a:lnTo>
                  <a:lnTo>
                    <a:pt x="1994" y="317"/>
                  </a:lnTo>
                  <a:lnTo>
                    <a:pt x="1993" y="323"/>
                  </a:lnTo>
                  <a:lnTo>
                    <a:pt x="1993" y="323"/>
                  </a:lnTo>
                  <a:lnTo>
                    <a:pt x="1992" y="327"/>
                  </a:lnTo>
                  <a:lnTo>
                    <a:pt x="1992" y="327"/>
                  </a:lnTo>
                  <a:lnTo>
                    <a:pt x="1992" y="327"/>
                  </a:lnTo>
                  <a:lnTo>
                    <a:pt x="1990" y="333"/>
                  </a:lnTo>
                  <a:lnTo>
                    <a:pt x="1990" y="333"/>
                  </a:lnTo>
                  <a:lnTo>
                    <a:pt x="1988" y="338"/>
                  </a:lnTo>
                  <a:lnTo>
                    <a:pt x="1988" y="338"/>
                  </a:lnTo>
                  <a:lnTo>
                    <a:pt x="1986" y="344"/>
                  </a:lnTo>
                  <a:lnTo>
                    <a:pt x="1986" y="344"/>
                  </a:lnTo>
                  <a:lnTo>
                    <a:pt x="1983" y="349"/>
                  </a:lnTo>
                  <a:lnTo>
                    <a:pt x="1983" y="349"/>
                  </a:lnTo>
                  <a:lnTo>
                    <a:pt x="1980" y="354"/>
                  </a:lnTo>
                  <a:lnTo>
                    <a:pt x="1980" y="354"/>
                  </a:lnTo>
                  <a:lnTo>
                    <a:pt x="1980" y="354"/>
                  </a:lnTo>
                  <a:lnTo>
                    <a:pt x="1977" y="360"/>
                  </a:lnTo>
                  <a:lnTo>
                    <a:pt x="1977" y="360"/>
                  </a:lnTo>
                  <a:lnTo>
                    <a:pt x="1973" y="365"/>
                  </a:lnTo>
                  <a:lnTo>
                    <a:pt x="1973" y="365"/>
                  </a:lnTo>
                  <a:lnTo>
                    <a:pt x="1970" y="370"/>
                  </a:lnTo>
                  <a:lnTo>
                    <a:pt x="1970" y="370"/>
                  </a:lnTo>
                  <a:lnTo>
                    <a:pt x="1965" y="375"/>
                  </a:lnTo>
                  <a:lnTo>
                    <a:pt x="1965" y="375"/>
                  </a:lnTo>
                  <a:lnTo>
                    <a:pt x="1961" y="381"/>
                  </a:lnTo>
                  <a:lnTo>
                    <a:pt x="1961" y="381"/>
                  </a:lnTo>
                  <a:lnTo>
                    <a:pt x="1961" y="381"/>
                  </a:lnTo>
                  <a:lnTo>
                    <a:pt x="1955" y="385"/>
                  </a:lnTo>
                  <a:lnTo>
                    <a:pt x="1955" y="385"/>
                  </a:lnTo>
                  <a:lnTo>
                    <a:pt x="1950" y="391"/>
                  </a:lnTo>
                  <a:lnTo>
                    <a:pt x="1950" y="391"/>
                  </a:lnTo>
                  <a:lnTo>
                    <a:pt x="1944" y="396"/>
                  </a:lnTo>
                  <a:lnTo>
                    <a:pt x="1944" y="396"/>
                  </a:lnTo>
                  <a:lnTo>
                    <a:pt x="1938" y="401"/>
                  </a:lnTo>
                  <a:lnTo>
                    <a:pt x="1938" y="401"/>
                  </a:lnTo>
                  <a:lnTo>
                    <a:pt x="1932" y="407"/>
                  </a:lnTo>
                  <a:lnTo>
                    <a:pt x="1932" y="407"/>
                  </a:lnTo>
                  <a:lnTo>
                    <a:pt x="1932" y="407"/>
                  </a:lnTo>
                  <a:lnTo>
                    <a:pt x="1925" y="411"/>
                  </a:lnTo>
                  <a:lnTo>
                    <a:pt x="1925" y="411"/>
                  </a:lnTo>
                  <a:lnTo>
                    <a:pt x="1918" y="416"/>
                  </a:lnTo>
                  <a:lnTo>
                    <a:pt x="1918" y="416"/>
                  </a:lnTo>
                  <a:lnTo>
                    <a:pt x="1910" y="421"/>
                  </a:lnTo>
                  <a:lnTo>
                    <a:pt x="1910" y="421"/>
                  </a:lnTo>
                  <a:lnTo>
                    <a:pt x="1903" y="426"/>
                  </a:lnTo>
                  <a:lnTo>
                    <a:pt x="1903" y="426"/>
                  </a:lnTo>
                  <a:lnTo>
                    <a:pt x="1895" y="431"/>
                  </a:lnTo>
                  <a:lnTo>
                    <a:pt x="1895" y="431"/>
                  </a:lnTo>
                  <a:lnTo>
                    <a:pt x="1895" y="431"/>
                  </a:lnTo>
                  <a:lnTo>
                    <a:pt x="1886" y="436"/>
                  </a:lnTo>
                  <a:lnTo>
                    <a:pt x="1886" y="436"/>
                  </a:lnTo>
                  <a:lnTo>
                    <a:pt x="1878" y="441"/>
                  </a:lnTo>
                  <a:lnTo>
                    <a:pt x="1878" y="441"/>
                  </a:lnTo>
                  <a:lnTo>
                    <a:pt x="1869" y="445"/>
                  </a:lnTo>
                  <a:lnTo>
                    <a:pt x="1869" y="445"/>
                  </a:lnTo>
                  <a:lnTo>
                    <a:pt x="1859" y="450"/>
                  </a:lnTo>
                  <a:lnTo>
                    <a:pt x="1859" y="450"/>
                  </a:lnTo>
                  <a:lnTo>
                    <a:pt x="1859" y="450"/>
                  </a:lnTo>
                  <a:lnTo>
                    <a:pt x="1850" y="455"/>
                  </a:lnTo>
                  <a:lnTo>
                    <a:pt x="1850" y="455"/>
                  </a:lnTo>
                  <a:lnTo>
                    <a:pt x="1840" y="460"/>
                  </a:lnTo>
                  <a:lnTo>
                    <a:pt x="1840" y="460"/>
                  </a:lnTo>
                  <a:lnTo>
                    <a:pt x="1830" y="464"/>
                  </a:lnTo>
                  <a:lnTo>
                    <a:pt x="1830" y="464"/>
                  </a:lnTo>
                  <a:lnTo>
                    <a:pt x="1819" y="468"/>
                  </a:lnTo>
                  <a:lnTo>
                    <a:pt x="1819" y="468"/>
                  </a:lnTo>
                  <a:lnTo>
                    <a:pt x="1808" y="473"/>
                  </a:lnTo>
                  <a:lnTo>
                    <a:pt x="1808" y="473"/>
                  </a:lnTo>
                  <a:lnTo>
                    <a:pt x="1808" y="473"/>
                  </a:lnTo>
                  <a:lnTo>
                    <a:pt x="1797" y="478"/>
                  </a:lnTo>
                  <a:lnTo>
                    <a:pt x="1797" y="478"/>
                  </a:lnTo>
                  <a:lnTo>
                    <a:pt x="1786" y="482"/>
                  </a:lnTo>
                  <a:lnTo>
                    <a:pt x="1786" y="482"/>
                  </a:lnTo>
                  <a:lnTo>
                    <a:pt x="1774" y="487"/>
                  </a:lnTo>
                  <a:lnTo>
                    <a:pt x="1774" y="487"/>
                  </a:lnTo>
                  <a:lnTo>
                    <a:pt x="1762" y="490"/>
                  </a:lnTo>
                  <a:lnTo>
                    <a:pt x="1762" y="490"/>
                  </a:lnTo>
                  <a:lnTo>
                    <a:pt x="1750" y="495"/>
                  </a:lnTo>
                  <a:lnTo>
                    <a:pt x="1750" y="495"/>
                  </a:lnTo>
                  <a:lnTo>
                    <a:pt x="1750" y="495"/>
                  </a:lnTo>
                  <a:lnTo>
                    <a:pt x="1737" y="499"/>
                  </a:lnTo>
                  <a:lnTo>
                    <a:pt x="1737" y="499"/>
                  </a:lnTo>
                  <a:lnTo>
                    <a:pt x="1725" y="503"/>
                  </a:lnTo>
                  <a:lnTo>
                    <a:pt x="1725" y="503"/>
                  </a:lnTo>
                  <a:lnTo>
                    <a:pt x="1712" y="507"/>
                  </a:lnTo>
                  <a:lnTo>
                    <a:pt x="1712" y="507"/>
                  </a:lnTo>
                  <a:lnTo>
                    <a:pt x="1699" y="512"/>
                  </a:lnTo>
                  <a:lnTo>
                    <a:pt x="1699" y="512"/>
                  </a:lnTo>
                  <a:lnTo>
                    <a:pt x="1685" y="515"/>
                  </a:lnTo>
                  <a:lnTo>
                    <a:pt x="1685" y="515"/>
                  </a:lnTo>
                  <a:lnTo>
                    <a:pt x="1685" y="515"/>
                  </a:lnTo>
                  <a:lnTo>
                    <a:pt x="1671" y="519"/>
                  </a:lnTo>
                  <a:lnTo>
                    <a:pt x="1671" y="519"/>
                  </a:lnTo>
                  <a:lnTo>
                    <a:pt x="1657" y="523"/>
                  </a:lnTo>
                  <a:lnTo>
                    <a:pt x="1657" y="523"/>
                  </a:lnTo>
                  <a:lnTo>
                    <a:pt x="1642" y="526"/>
                  </a:lnTo>
                  <a:lnTo>
                    <a:pt x="1642" y="526"/>
                  </a:lnTo>
                  <a:lnTo>
                    <a:pt x="1628" y="530"/>
                  </a:lnTo>
                  <a:lnTo>
                    <a:pt x="1628" y="530"/>
                  </a:lnTo>
                  <a:lnTo>
                    <a:pt x="1614" y="534"/>
                  </a:lnTo>
                  <a:lnTo>
                    <a:pt x="1614" y="534"/>
                  </a:lnTo>
                  <a:lnTo>
                    <a:pt x="1614" y="534"/>
                  </a:lnTo>
                  <a:lnTo>
                    <a:pt x="1598" y="537"/>
                  </a:lnTo>
                  <a:lnTo>
                    <a:pt x="1598" y="537"/>
                  </a:lnTo>
                  <a:lnTo>
                    <a:pt x="1583" y="541"/>
                  </a:lnTo>
                  <a:lnTo>
                    <a:pt x="1583" y="541"/>
                  </a:lnTo>
                  <a:lnTo>
                    <a:pt x="1567" y="545"/>
                  </a:lnTo>
                  <a:lnTo>
                    <a:pt x="1567" y="545"/>
                  </a:lnTo>
                  <a:lnTo>
                    <a:pt x="1552" y="548"/>
                  </a:lnTo>
                  <a:lnTo>
                    <a:pt x="1552" y="548"/>
                  </a:lnTo>
                  <a:lnTo>
                    <a:pt x="1536" y="551"/>
                  </a:lnTo>
                  <a:lnTo>
                    <a:pt x="1536" y="551"/>
                  </a:lnTo>
                  <a:lnTo>
                    <a:pt x="1536" y="551"/>
                  </a:lnTo>
                  <a:lnTo>
                    <a:pt x="1520" y="554"/>
                  </a:lnTo>
                  <a:lnTo>
                    <a:pt x="1520" y="554"/>
                  </a:lnTo>
                  <a:lnTo>
                    <a:pt x="1503" y="558"/>
                  </a:lnTo>
                  <a:lnTo>
                    <a:pt x="1503" y="558"/>
                  </a:lnTo>
                  <a:lnTo>
                    <a:pt x="1486" y="560"/>
                  </a:lnTo>
                  <a:lnTo>
                    <a:pt x="1486" y="560"/>
                  </a:lnTo>
                  <a:lnTo>
                    <a:pt x="1470" y="563"/>
                  </a:lnTo>
                  <a:lnTo>
                    <a:pt x="1470" y="563"/>
                  </a:lnTo>
                  <a:lnTo>
                    <a:pt x="1453" y="566"/>
                  </a:lnTo>
                  <a:lnTo>
                    <a:pt x="1453" y="566"/>
                  </a:lnTo>
                  <a:lnTo>
                    <a:pt x="1453" y="566"/>
                  </a:lnTo>
                  <a:lnTo>
                    <a:pt x="1436" y="569"/>
                  </a:lnTo>
                  <a:lnTo>
                    <a:pt x="1436" y="569"/>
                  </a:lnTo>
                  <a:lnTo>
                    <a:pt x="1418" y="572"/>
                  </a:lnTo>
                  <a:lnTo>
                    <a:pt x="1418" y="572"/>
                  </a:lnTo>
                  <a:lnTo>
                    <a:pt x="1401" y="574"/>
                  </a:lnTo>
                  <a:lnTo>
                    <a:pt x="1401" y="574"/>
                  </a:lnTo>
                  <a:lnTo>
                    <a:pt x="1383" y="577"/>
                  </a:lnTo>
                  <a:lnTo>
                    <a:pt x="1383" y="577"/>
                  </a:lnTo>
                  <a:lnTo>
                    <a:pt x="1365" y="580"/>
                  </a:lnTo>
                  <a:lnTo>
                    <a:pt x="1365" y="580"/>
                  </a:lnTo>
                  <a:lnTo>
                    <a:pt x="1365" y="580"/>
                  </a:lnTo>
                  <a:lnTo>
                    <a:pt x="1347" y="582"/>
                  </a:lnTo>
                  <a:lnTo>
                    <a:pt x="1347" y="582"/>
                  </a:lnTo>
                  <a:lnTo>
                    <a:pt x="1329" y="584"/>
                  </a:lnTo>
                  <a:lnTo>
                    <a:pt x="1329" y="584"/>
                  </a:lnTo>
                  <a:lnTo>
                    <a:pt x="1311" y="586"/>
                  </a:lnTo>
                  <a:lnTo>
                    <a:pt x="1311" y="586"/>
                  </a:lnTo>
                  <a:lnTo>
                    <a:pt x="1293" y="588"/>
                  </a:lnTo>
                  <a:lnTo>
                    <a:pt x="1293" y="588"/>
                  </a:lnTo>
                  <a:lnTo>
                    <a:pt x="1274" y="591"/>
                  </a:lnTo>
                  <a:lnTo>
                    <a:pt x="1274" y="591"/>
                  </a:lnTo>
                  <a:lnTo>
                    <a:pt x="1274" y="591"/>
                  </a:lnTo>
                  <a:lnTo>
                    <a:pt x="1255" y="593"/>
                  </a:lnTo>
                  <a:lnTo>
                    <a:pt x="1255" y="593"/>
                  </a:lnTo>
                  <a:lnTo>
                    <a:pt x="1236" y="595"/>
                  </a:lnTo>
                  <a:lnTo>
                    <a:pt x="1236" y="595"/>
                  </a:lnTo>
                  <a:lnTo>
                    <a:pt x="1217" y="596"/>
                  </a:lnTo>
                  <a:lnTo>
                    <a:pt x="1217" y="596"/>
                  </a:lnTo>
                  <a:lnTo>
                    <a:pt x="1199" y="597"/>
                  </a:lnTo>
                  <a:lnTo>
                    <a:pt x="1199" y="597"/>
                  </a:lnTo>
                  <a:lnTo>
                    <a:pt x="1179" y="599"/>
                  </a:lnTo>
                  <a:lnTo>
                    <a:pt x="1179" y="599"/>
                  </a:lnTo>
                  <a:lnTo>
                    <a:pt x="1179" y="599"/>
                  </a:lnTo>
                  <a:lnTo>
                    <a:pt x="1160" y="601"/>
                  </a:lnTo>
                  <a:lnTo>
                    <a:pt x="1160" y="601"/>
                  </a:lnTo>
                  <a:lnTo>
                    <a:pt x="1140" y="602"/>
                  </a:lnTo>
                  <a:lnTo>
                    <a:pt x="1140" y="602"/>
                  </a:lnTo>
                  <a:lnTo>
                    <a:pt x="1122" y="604"/>
                  </a:lnTo>
                  <a:lnTo>
                    <a:pt x="1122" y="604"/>
                  </a:lnTo>
                  <a:lnTo>
                    <a:pt x="1102" y="605"/>
                  </a:lnTo>
                  <a:lnTo>
                    <a:pt x="1102" y="605"/>
                  </a:lnTo>
                  <a:lnTo>
                    <a:pt x="1082" y="606"/>
                  </a:lnTo>
                  <a:lnTo>
                    <a:pt x="1082" y="606"/>
                  </a:lnTo>
                  <a:lnTo>
                    <a:pt x="1082" y="606"/>
                  </a:lnTo>
                  <a:lnTo>
                    <a:pt x="1062" y="607"/>
                  </a:lnTo>
                  <a:lnTo>
                    <a:pt x="1062" y="607"/>
                  </a:lnTo>
                  <a:lnTo>
                    <a:pt x="1043" y="608"/>
                  </a:lnTo>
                  <a:lnTo>
                    <a:pt x="1043" y="608"/>
                  </a:lnTo>
                  <a:lnTo>
                    <a:pt x="1023" y="609"/>
                  </a:lnTo>
                  <a:lnTo>
                    <a:pt x="1023" y="609"/>
                  </a:lnTo>
                  <a:lnTo>
                    <a:pt x="1003" y="610"/>
                  </a:lnTo>
                  <a:lnTo>
                    <a:pt x="1003" y="610"/>
                  </a:lnTo>
                  <a:lnTo>
                    <a:pt x="983" y="610"/>
                  </a:lnTo>
                  <a:lnTo>
                    <a:pt x="983" y="610"/>
                  </a:lnTo>
                  <a:lnTo>
                    <a:pt x="983" y="610"/>
                  </a:lnTo>
                  <a:lnTo>
                    <a:pt x="963" y="611"/>
                  </a:lnTo>
                  <a:lnTo>
                    <a:pt x="963" y="611"/>
                  </a:lnTo>
                  <a:lnTo>
                    <a:pt x="943" y="611"/>
                  </a:lnTo>
                  <a:lnTo>
                    <a:pt x="943" y="611"/>
                  </a:lnTo>
                  <a:lnTo>
                    <a:pt x="923" y="612"/>
                  </a:lnTo>
                  <a:lnTo>
                    <a:pt x="923" y="612"/>
                  </a:lnTo>
                  <a:lnTo>
                    <a:pt x="903" y="612"/>
                  </a:lnTo>
                  <a:lnTo>
                    <a:pt x="903" y="612"/>
                  </a:lnTo>
                  <a:lnTo>
                    <a:pt x="883" y="613"/>
                  </a:lnTo>
                  <a:lnTo>
                    <a:pt x="883" y="613"/>
                  </a:lnTo>
                  <a:lnTo>
                    <a:pt x="883" y="613"/>
                  </a:lnTo>
                  <a:lnTo>
                    <a:pt x="862" y="613"/>
                  </a:lnTo>
                  <a:lnTo>
                    <a:pt x="862" y="613"/>
                  </a:lnTo>
                  <a:lnTo>
                    <a:pt x="843" y="613"/>
                  </a:lnTo>
                  <a:lnTo>
                    <a:pt x="843" y="613"/>
                  </a:lnTo>
                  <a:lnTo>
                    <a:pt x="822" y="613"/>
                  </a:lnTo>
                  <a:lnTo>
                    <a:pt x="822" y="613"/>
                  </a:lnTo>
                  <a:lnTo>
                    <a:pt x="802" y="613"/>
                  </a:lnTo>
                  <a:lnTo>
                    <a:pt x="802" y="613"/>
                  </a:lnTo>
                  <a:lnTo>
                    <a:pt x="782" y="612"/>
                  </a:lnTo>
                  <a:lnTo>
                    <a:pt x="782" y="612"/>
                  </a:lnTo>
                  <a:lnTo>
                    <a:pt x="782" y="612"/>
                  </a:lnTo>
                  <a:lnTo>
                    <a:pt x="762" y="612"/>
                  </a:lnTo>
                  <a:lnTo>
                    <a:pt x="762" y="612"/>
                  </a:lnTo>
                  <a:lnTo>
                    <a:pt x="742" y="611"/>
                  </a:lnTo>
                  <a:lnTo>
                    <a:pt x="742" y="611"/>
                  </a:lnTo>
                  <a:lnTo>
                    <a:pt x="722" y="611"/>
                  </a:lnTo>
                  <a:lnTo>
                    <a:pt x="722" y="611"/>
                  </a:lnTo>
                  <a:lnTo>
                    <a:pt x="702" y="610"/>
                  </a:lnTo>
                  <a:lnTo>
                    <a:pt x="702" y="610"/>
                  </a:lnTo>
                  <a:lnTo>
                    <a:pt x="682" y="610"/>
                  </a:lnTo>
                  <a:lnTo>
                    <a:pt x="682" y="610"/>
                  </a:lnTo>
                  <a:lnTo>
                    <a:pt x="682" y="610"/>
                  </a:lnTo>
                  <a:lnTo>
                    <a:pt x="663" y="609"/>
                  </a:lnTo>
                  <a:lnTo>
                    <a:pt x="663" y="609"/>
                  </a:lnTo>
                  <a:lnTo>
                    <a:pt x="643" y="608"/>
                  </a:lnTo>
                  <a:lnTo>
                    <a:pt x="643" y="608"/>
                  </a:lnTo>
                  <a:lnTo>
                    <a:pt x="623" y="607"/>
                  </a:lnTo>
                  <a:lnTo>
                    <a:pt x="623" y="607"/>
                  </a:lnTo>
                  <a:lnTo>
                    <a:pt x="603" y="606"/>
                  </a:lnTo>
                  <a:lnTo>
                    <a:pt x="603" y="606"/>
                  </a:lnTo>
                  <a:lnTo>
                    <a:pt x="603" y="606"/>
                  </a:lnTo>
                  <a:lnTo>
                    <a:pt x="584" y="605"/>
                  </a:lnTo>
                  <a:lnTo>
                    <a:pt x="584" y="605"/>
                  </a:lnTo>
                  <a:lnTo>
                    <a:pt x="564" y="604"/>
                  </a:lnTo>
                  <a:lnTo>
                    <a:pt x="564" y="604"/>
                  </a:lnTo>
                  <a:lnTo>
                    <a:pt x="544" y="602"/>
                  </a:lnTo>
                  <a:lnTo>
                    <a:pt x="544" y="602"/>
                  </a:lnTo>
                  <a:lnTo>
                    <a:pt x="525" y="601"/>
                  </a:lnTo>
                  <a:lnTo>
                    <a:pt x="525" y="601"/>
                  </a:lnTo>
                  <a:lnTo>
                    <a:pt x="506" y="599"/>
                  </a:lnTo>
                  <a:lnTo>
                    <a:pt x="506" y="599"/>
                  </a:lnTo>
                  <a:lnTo>
                    <a:pt x="506" y="599"/>
                  </a:lnTo>
                  <a:lnTo>
                    <a:pt x="487" y="597"/>
                  </a:lnTo>
                  <a:lnTo>
                    <a:pt x="487" y="597"/>
                  </a:lnTo>
                  <a:lnTo>
                    <a:pt x="467" y="596"/>
                  </a:lnTo>
                  <a:lnTo>
                    <a:pt x="467" y="596"/>
                  </a:lnTo>
                  <a:lnTo>
                    <a:pt x="448" y="595"/>
                  </a:lnTo>
                  <a:lnTo>
                    <a:pt x="448" y="595"/>
                  </a:lnTo>
                  <a:lnTo>
                    <a:pt x="430" y="593"/>
                  </a:lnTo>
                  <a:lnTo>
                    <a:pt x="430" y="593"/>
                  </a:lnTo>
                  <a:lnTo>
                    <a:pt x="411" y="591"/>
                  </a:lnTo>
                  <a:lnTo>
                    <a:pt x="411" y="591"/>
                  </a:lnTo>
                  <a:lnTo>
                    <a:pt x="411" y="591"/>
                  </a:lnTo>
                  <a:lnTo>
                    <a:pt x="393" y="588"/>
                  </a:lnTo>
                  <a:lnTo>
                    <a:pt x="393" y="588"/>
                  </a:lnTo>
                  <a:lnTo>
                    <a:pt x="374" y="586"/>
                  </a:lnTo>
                  <a:lnTo>
                    <a:pt x="374" y="586"/>
                  </a:lnTo>
                  <a:lnTo>
                    <a:pt x="356" y="584"/>
                  </a:lnTo>
                  <a:lnTo>
                    <a:pt x="356" y="584"/>
                  </a:lnTo>
                  <a:lnTo>
                    <a:pt x="337" y="582"/>
                  </a:lnTo>
                  <a:lnTo>
                    <a:pt x="337" y="582"/>
                  </a:lnTo>
                  <a:lnTo>
                    <a:pt x="319" y="580"/>
                  </a:lnTo>
                  <a:lnTo>
                    <a:pt x="319" y="580"/>
                  </a:lnTo>
                  <a:lnTo>
                    <a:pt x="319" y="580"/>
                  </a:lnTo>
                  <a:lnTo>
                    <a:pt x="301" y="577"/>
                  </a:lnTo>
                  <a:lnTo>
                    <a:pt x="301" y="577"/>
                  </a:lnTo>
                  <a:lnTo>
                    <a:pt x="284" y="574"/>
                  </a:lnTo>
                  <a:lnTo>
                    <a:pt x="284" y="574"/>
                  </a:lnTo>
                  <a:lnTo>
                    <a:pt x="266" y="572"/>
                  </a:lnTo>
                  <a:lnTo>
                    <a:pt x="266" y="572"/>
                  </a:lnTo>
                  <a:lnTo>
                    <a:pt x="249" y="569"/>
                  </a:lnTo>
                  <a:lnTo>
                    <a:pt x="249" y="569"/>
                  </a:lnTo>
                  <a:lnTo>
                    <a:pt x="232" y="566"/>
                  </a:lnTo>
                  <a:lnTo>
                    <a:pt x="232" y="566"/>
                  </a:lnTo>
                  <a:lnTo>
                    <a:pt x="232" y="566"/>
                  </a:lnTo>
                  <a:lnTo>
                    <a:pt x="215" y="563"/>
                  </a:lnTo>
                  <a:lnTo>
                    <a:pt x="215" y="563"/>
                  </a:lnTo>
                  <a:lnTo>
                    <a:pt x="198" y="560"/>
                  </a:lnTo>
                  <a:lnTo>
                    <a:pt x="198" y="560"/>
                  </a:lnTo>
                  <a:lnTo>
                    <a:pt x="182" y="558"/>
                  </a:lnTo>
                  <a:lnTo>
                    <a:pt x="182" y="558"/>
                  </a:lnTo>
                  <a:lnTo>
                    <a:pt x="165" y="554"/>
                  </a:lnTo>
                  <a:lnTo>
                    <a:pt x="165" y="554"/>
                  </a:lnTo>
                  <a:lnTo>
                    <a:pt x="149" y="551"/>
                  </a:lnTo>
                  <a:lnTo>
                    <a:pt x="149" y="551"/>
                  </a:lnTo>
                  <a:lnTo>
                    <a:pt x="149" y="551"/>
                  </a:lnTo>
                  <a:lnTo>
                    <a:pt x="134" y="548"/>
                  </a:lnTo>
                  <a:lnTo>
                    <a:pt x="134" y="548"/>
                  </a:lnTo>
                  <a:lnTo>
                    <a:pt x="118" y="545"/>
                  </a:lnTo>
                  <a:lnTo>
                    <a:pt x="118" y="545"/>
                  </a:lnTo>
                  <a:lnTo>
                    <a:pt x="102" y="541"/>
                  </a:lnTo>
                  <a:lnTo>
                    <a:pt x="102" y="541"/>
                  </a:lnTo>
                  <a:lnTo>
                    <a:pt x="87" y="537"/>
                  </a:lnTo>
                  <a:lnTo>
                    <a:pt x="87" y="537"/>
                  </a:lnTo>
                  <a:lnTo>
                    <a:pt x="72" y="534"/>
                  </a:lnTo>
                  <a:lnTo>
                    <a:pt x="72" y="534"/>
                  </a:lnTo>
                  <a:lnTo>
                    <a:pt x="72" y="534"/>
                  </a:lnTo>
                  <a:lnTo>
                    <a:pt x="57" y="530"/>
                  </a:lnTo>
                  <a:lnTo>
                    <a:pt x="57" y="530"/>
                  </a:lnTo>
                  <a:lnTo>
                    <a:pt x="42" y="526"/>
                  </a:lnTo>
                  <a:lnTo>
                    <a:pt x="42" y="526"/>
                  </a:lnTo>
                  <a:lnTo>
                    <a:pt x="28" y="523"/>
                  </a:lnTo>
                  <a:lnTo>
                    <a:pt x="28" y="523"/>
                  </a:lnTo>
                  <a:lnTo>
                    <a:pt x="14" y="519"/>
                  </a:lnTo>
                  <a:lnTo>
                    <a:pt x="14" y="519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843" y="306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6920" y="4234680"/>
              <a:ext cx="669960" cy="502920"/>
            </a:xfrm>
            <a:custGeom>
              <a:avLst/>
              <a:gdLst/>
              <a:ahLst/>
              <a:rect l="l" t="t" r="r" b="b"/>
              <a:pathLst>
                <a:path w="454" h="294">
                  <a:moveTo>
                    <a:pt x="454" y="0"/>
                  </a:moveTo>
                  <a:lnTo>
                    <a:pt x="454" y="77"/>
                  </a:lnTo>
                  <a:lnTo>
                    <a:pt x="0" y="2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83560" y="715320"/>
              <a:ext cx="544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ERCENTAGE OF ITALIAN PARTNER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4440" y="1127520"/>
              <a:ext cx="164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500" spc="-1" strike="noStrike">
                  <a:solidFill>
                    <a:srgbClr val="000000"/>
                  </a:solidFill>
                  <a:latin typeface="Arial"/>
                </a:rPr>
                <a:t>(total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r>
                <a:rPr b="1" lang="it-IT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5080" y="348840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84240" y="38376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3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1400" y="2701440"/>
              <a:ext cx="1044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000000"/>
                  </a:solidFill>
                  <a:latin typeface="Arial"/>
                </a:rPr>
                <a:t>Itali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000000"/>
                  </a:solidFill>
                  <a:latin typeface="Arial"/>
                </a:rPr>
                <a:t>Partner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3160" y="30502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07160" y="33976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76212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98560" cy="463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 OF LEAD PARTNERS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(total Programm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2060640"/>
          <a:ext cx="7812000" cy="357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060640"/>
                    <a:ext cx="7812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4:43:52Z</dcterms:created>
  <dc:creator>Luca Palazzo</dc:creator>
  <dc:description/>
  <dc:language>en-US</dc:language>
  <cp:lastModifiedBy>Personal Computer</cp:lastModifiedBy>
  <dcterms:modified xsi:type="dcterms:W3CDTF">2007-03-07T16:36:52Z</dcterms:modified>
  <cp:revision>26</cp:revision>
  <dc:subject/>
  <dc:title>Presentazione di PowerPoint</dc:title>
</cp:coreProperties>
</file>