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66AB-E6FB-4A7C-BC26-C4D31505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06E-0DBA-4A47-89FF-06E92ECC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1FA1-DE18-411D-972C-8A1E2234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AC7-7F89-4901-AC29-EB2AA280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2F4-87AD-471A-8E48-9D242389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BA5-B8FA-4F3B-A9B8-67DC449F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D409-F2C7-45CD-9804-20B9EC68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3EA-EAF7-42C0-B29C-E6D9E6E5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7201-BDE8-46FB-AEB7-9CB69E62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30AF-34C0-41D9-BCBB-1D5C5580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7A4B-71FE-4000-9BA5-9DF38102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6368-3A61-462F-82E0-6FEB3919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00CB-DA76-47EE-AC86-2F9D421C6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helpdeskspazioalpino@infrastrutturetrasporti.it" TargetMode="External"/><Relationship Id="rId2" Type="http://schemas.openxmlformats.org/officeDocument/2006/relationships/hyperlink" Target="mailto:helpdeskspazioalpino@infrastrutturetrasporti.it" TargetMode="External"/><Relationship Id="rId3" Type="http://schemas.openxmlformats.org/officeDocument/2006/relationships/hyperlink" Target="mailto:helpdeskspazioalpino@infrastrutturetrasporti.it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32004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iusura Finanzi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409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talian National Contact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nezia, 23 marzo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259056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58000" y="609480"/>
            <a:ext cx="685800" cy="733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15000" y="1371600"/>
            <a:ext cx="2863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Bookman Old Style"/>
              </a:rPr>
              <a:t>Ministero delle Infrastrut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G Programmazione e Programmi Europ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iv. V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e guida di supporto ai progetti in chiu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empistica modalità di presentazione rendiconti:</a:t>
            </a:r>
            <a:br>
              <a:rPr sz="2800"/>
            </a:br>
            <a:br>
              <a:rPr sz="28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3 mesi post chiusura per la presentazione del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Final Report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segnalazione al NCP, da parte del LP della 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scadenza Final Report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comunicazi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li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ricezione rendiconti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controllo ricezione rendiconti (da parte del PP e 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del FLC) ed inserimento in  lista prior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2209680" cy="1114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705720" y="609480"/>
            <a:ext cx="685800" cy="733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638680" y="1371600"/>
            <a:ext cx="2863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Bookman Old Style"/>
              </a:rPr>
              <a:t>Ministero delle Infrastrut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G Programmazione e Programmi Europ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iv. V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do rendicontato ed eleggibilità delle sp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25146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dicare la data dell’ultima quietanza anche se successiva alla data di chiusura delle attività, una nota a piè di pagina, nella CoE indicherà che la spesa è stata sostenuta entro la fine del proget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caso di spese riferite a periodi precedenti e mai rendicontate, predisporre un rendiconto di “recupero” con lo stesso periodo di quello al quale si riferisco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no eleggibili le spese sostenute entro la data di chiusura anche se quietanzate entro i 45 gg. successivi alla fine attività del proget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TA nuova procedura possono derogare alla rego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disporre il rendiconto finale indicando, nell’Annex III, gli importi già rendicontati come certific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2209680" cy="1114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705720" y="609480"/>
            <a:ext cx="685800" cy="733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638680" y="1371600"/>
            <a:ext cx="2863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Bookman Old Style"/>
              </a:rPr>
              <a:t>Ministero delle Infrastrut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G Programmazione e Programmi Europ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iv. V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9807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vorazione e consegna delle certific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4920" y="297144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utti i rendiconti non ancora certificati verranno inseriti in lista priorita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redisporre le eventuali integrazioni in tempi brevi e comunicarne l‘invio all‘helpde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omunicazione al LP dell‘importo certificato ed anticipo via fax della copia 1 per M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onsegna delle certificazioni: tempistica e modalit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2209680" cy="1114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705720" y="609480"/>
            <a:ext cx="685800" cy="733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638680" y="1371600"/>
            <a:ext cx="2863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Bookman Old Style"/>
              </a:rPr>
              <a:t>Ministero delle Infrastrut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G Programmazione e Programmi Europ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iv. V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19047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61760" y="2666880"/>
            <a:ext cx="7848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Ministero delle Infrastrut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ia Nomentanta 2, 00161 – R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talian National Contact 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echnical Assistance: Mr. Aldo Pu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lpdeskspazioalpino@infrastrutturetrasporti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l.: 0039 06 44 12 6252/4100 – Fax: 0039 06 44 26 71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62120" y="609480"/>
            <a:ext cx="2209680" cy="111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705720" y="609480"/>
            <a:ext cx="685800" cy="733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638680" y="1371600"/>
            <a:ext cx="2863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Bookman Old Style"/>
              </a:rPr>
              <a:t>Ministero delle Infrastrut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G Programmazione e Programmi Europ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Bookman Old Style"/>
              </a:rPr>
              <a:t>Div. V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ges</cp:lastModifiedBy>
  <dcterms:modified xsi:type="dcterms:W3CDTF">2007-03-07T15:49:4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