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221-9F8F-48A7-B994-EBECFA6F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709-96B3-4DD4-AD11-B5F363C0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5F3-20A4-42CC-9864-C8D8FAB3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D0E-3556-42BE-989B-D6943355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E7BB-A4E3-4238-97B6-E2CF2270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EAA9-8E96-4E03-A4D9-BAF78A9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790-97A3-4EF2-9F8D-FB1EDADD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576F-5BB7-4D66-9A58-1EDADFA1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A99A-00C1-47EC-8E18-C33CFE50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836640"/>
            <a:ext cx="82296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83F-6A6A-4F0A-ABF9-D4E430EA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A960-E1E2-4A17-915A-F2ECD0B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5C4-0274-48BD-85B9-D2FE5AFE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54C-D1D7-4C50-B9A1-ACE17A23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8B68-FFB0-4C5F-9CD3-46D8202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EC26-BFD0-41FF-A483-08B57BF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23D-4240-47F4-9153-4C4C6417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2DC8-A77E-4F58-8059-459C9BC7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21B-A1AB-4C4A-B923-CF5DCFEB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2FB-2B5D-41E7-B749-9E693B4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D4C-F491-4580-87BF-91AF074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836640"/>
            <a:ext cx="82296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DFA-0D74-4919-B706-2CAC0FFB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52E-F213-43E5-AF99-024A611F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C27-2ECB-40EB-8394-1EF48BE8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73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F7A-80EB-4DAA-9AA0-61069A4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gradFill rotWithShape="0">
            <a:gsLst>
              <a:gs pos="0">
                <a:srgbClr val="004e00"/>
              </a:gs>
              <a:gs pos="100000">
                <a:srgbClr val="007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62870" r="26371" b="7150"/>
          <a:stretch/>
        </p:blipFill>
        <p:spPr>
          <a:xfrm>
            <a:off x="0" y="-27000"/>
            <a:ext cx="91440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780C-78F6-43A2-A93C-70E08CF532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gradFill rotWithShape="0">
            <a:gsLst>
              <a:gs pos="0">
                <a:srgbClr val="003800"/>
              </a:gs>
              <a:gs pos="100000">
                <a:srgbClr val="007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62870" r="26371" b="7150"/>
          <a:stretch/>
        </p:blipFill>
        <p:spPr>
          <a:xfrm>
            <a:off x="0" y="-27000"/>
            <a:ext cx="9144000" cy="588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E6F1-60E6-43D0-B49E-51024F5656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44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7777080" cy="4537080"/>
          </a:xfrm>
          <a:prstGeom prst="rect">
            <a:avLst/>
          </a:prstGeom>
          <a:solidFill>
            <a:srgbClr val="f3fea0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6600"/>
                </a:solidFill>
                <a:latin typeface="Arial"/>
              </a:rPr>
              <a:t>P.I.C. Interreg IIIB „Spazio Alpino“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egretariato Tecnico Congiunto</a:t>
            </a:r>
            <a:br>
              <a:rPr sz="2400"/>
            </a:br>
            <a:br>
              <a:rPr sz="1800"/>
            </a:b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Il report finale – Final Report</a:t>
            </a:r>
            <a:br>
              <a:rPr sz="3600"/>
            </a:br>
            <a:br>
              <a:rPr sz="3600"/>
            </a:b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Seminario progetti in chiusura</a:t>
            </a:r>
            <a:br>
              <a:rPr sz="1800"/>
            </a:b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Venezia, 23 marzo 2007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3200"/>
            </a:br>
            <a:r>
              <a:rPr b="1" lang="fr-FR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7777080" cy="4537080"/>
          </a:xfrm>
          <a:prstGeom prst="rect">
            <a:avLst/>
          </a:prstGeom>
          <a:solidFill>
            <a:srgbClr val="f3fea0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6600"/>
                </a:solidFill>
                <a:latin typeface="Arial"/>
              </a:rPr>
              <a:t>P.I.C. Interreg IIIB „Spazio Alpino“</a:t>
            </a: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Segretariato Tecnico Congiunto</a:t>
            </a:r>
            <a:br>
              <a:rPr sz="2800"/>
            </a:br>
            <a:br>
              <a:rPr sz="2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Il saldo</a:t>
            </a:r>
            <a:br>
              <a:rPr sz="4000"/>
            </a:br>
            <a:br>
              <a:rPr sz="4000"/>
            </a:br>
            <a:br>
              <a:rPr sz="4400"/>
            </a:b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Seminario progetti in chiusura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Venezia, 23 marzo 2007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99"/>
                </a:solidFill>
                <a:latin typeface="Arial"/>
              </a:rPr>
              <a:t>Saldo: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ferimenti normativ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t. 32 (3) Reg. (CE) 1260/1999: il 5% finale (saldo) del contributo totale FESR al Programma “Spazio Alpino" ver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à eseguito dalla C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po che l´AdG av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à presentat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chiarazione certificata delle spese effettivamente sostenu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 dopo che 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lazione finale di esecuzion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verrà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pprovat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a CE e dopo che gl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ati Memb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enteranno alla Commissione, alla conclusione del Programma, un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chiar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art.38 par.1 lett.f del Regol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o non avver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à prima della fine del 201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a tranche finale del pagamento ver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à molto probabilmente versata solo allo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99"/>
                </a:solidFill>
                <a:latin typeface="Arial"/>
              </a:rPr>
              <a:t>Saldo: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iferimenti fanno sono parte integrant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idy Contra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recit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Disbursement of the subsidy is subject to the condition that it can be covered by the available ERDF-funds the PA has received from the European Commission.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itato di Pilotagg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Programma ha stabilito che il saldo dei progetti ve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 erogato dopo il saldo della CE al Program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ernaria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ide come finanziare il 5% dei fondi FES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 consigliabile che venga finanziato d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 pubbl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deguata copertura finanzi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7777080" cy="4537080"/>
          </a:xfrm>
          <a:prstGeom prst="rect">
            <a:avLst/>
          </a:prstGeom>
          <a:solidFill>
            <a:srgbClr val="f3fea0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6600"/>
                </a:solidFill>
                <a:latin typeface="Arial"/>
              </a:rPr>
              <a:t>P.I.C. Interreg IIIB „Spazio Alpino“</a:t>
            </a: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400"/>
            </a:b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Segretariato Tecnico Congiunto</a:t>
            </a:r>
            <a:br>
              <a:rPr sz="2800"/>
            </a:br>
            <a:br>
              <a:rPr sz="2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inergie e disseminazione</a:t>
            </a:r>
            <a:br>
              <a:rPr sz="4000"/>
            </a:br>
            <a:br>
              <a:rPr sz="4000"/>
            </a:br>
            <a:br>
              <a:rPr sz="4400"/>
            </a:b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Seminario progetti in chiusura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Venezia, 23 marzo 2007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99"/>
                </a:solidFill>
                <a:latin typeface="Arial"/>
              </a:rPr>
              <a:t>Disseminazione dei risultati dei progetti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sito del Programma ha un nuovo spaz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ff99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ccff99"/>
                </a:solidFill>
                <a:latin typeface="Arial"/>
              </a:rPr>
              <a:t>Projects &amp; Resul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scrizione dei progetti, obiettivi, parternariato, contatti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NOVIT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pazio per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realizzazioni e risulta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cumenti + breve descrizione introdut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Per favore, teneteci informati su modifiche/aggiornamenti! Graz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99"/>
                </a:solidFill>
                <a:latin typeface="Arial"/>
              </a:rPr>
              <a:t>Informazioni sul nuovo Periodo di Programmazione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sito del Programma ha uno spazio dedica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ff99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ccff99"/>
                </a:solidFill>
                <a:latin typeface="Arial"/>
              </a:rPr>
              <a:t>Alpine Space Programme II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e generale Obiettivo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e dedicata al Programma Spazio Alpino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 non dimentica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nergi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il </a:t>
            </a:r>
            <a:r>
              <a:rPr b="1" lang="it-IT" sz="2400" spc="-1" strike="noStrike">
                <a:solidFill>
                  <a:srgbClr val="ccff99"/>
                </a:solidFill>
                <a:latin typeface="Arial"/>
              </a:rPr>
              <a:t>“Projects/ Discussion Forum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775640" cy="432144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6600"/>
                </a:solidFill>
                <a:latin typeface="Arial"/>
              </a:rPr>
              <a:t>Domande ?</a:t>
            </a:r>
            <a:br>
              <a:rPr sz="4000"/>
            </a:br>
            <a:r>
              <a:rPr b="1" lang="it-IT" sz="4000" spc="-1" strike="noStrike">
                <a:solidFill>
                  <a:srgbClr val="006600"/>
                </a:solidFill>
                <a:latin typeface="Arial"/>
              </a:rPr>
              <a:t>Contattate le Autorità di Programma (STC/AdG/PCN)</a:t>
            </a:r>
            <a:br>
              <a:rPr sz="2000"/>
            </a:br>
            <a:r>
              <a:rPr b="1" lang="it-IT" sz="2000" spc="-1" strike="noStrike">
                <a:solidFill>
                  <a:srgbClr val="006600"/>
                </a:solidFill>
                <a:latin typeface="Arial"/>
              </a:rPr>
              <a:t>------------------</a:t>
            </a:r>
            <a:br>
              <a:rPr sz="2000"/>
            </a:br>
            <a:br>
              <a:rPr sz="2000"/>
            </a:br>
            <a:r>
              <a:rPr b="1" lang="it-IT" sz="4000" spc="-1" strike="noStrike">
                <a:solidFill>
                  <a:srgbClr val="006600"/>
                </a:solidFill>
                <a:latin typeface="Arial"/>
              </a:rPr>
              <a:t>Grazie dell´attenzione!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2210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5688000"/>
            <a:ext cx="7467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bbe0e3"/>
                </a:solidFill>
                <a:latin typeface="Arial"/>
              </a:rPr>
              <a:t>ivan.curzolo@rosenheim.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ff99"/>
                </a:solidFill>
                <a:latin typeface="Arial"/>
              </a:rPr>
              <a:t>Scadenze</a:t>
            </a:r>
            <a:endParaRPr b="1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70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ve essere presentato dopo la chiusura del progetto, come indicato ne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 (§3.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TC invia 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mind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on preghiera di confermarne la rice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rog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a scadenza di presentazione de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ale il documento “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equest for postponements of reporting deadline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come per 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rogress Repor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ola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document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 disponibile nel sito del Program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ff99"/>
                </a:solidFill>
                <a:latin typeface="Arial"/>
              </a:rPr>
              <a:t>Il Final Report </a:t>
            </a:r>
            <a:r>
              <a:rPr b="1" lang="it-IT" sz="3600" spc="-1" strike="noStrike">
                <a:solidFill>
                  <a:srgbClr val="ccff99"/>
                </a:solidFill>
                <a:latin typeface="Arial"/>
                <a:ea typeface="Arial"/>
              </a:rPr>
              <a:t>è composto da</a:t>
            </a:r>
            <a:r>
              <a:rPr b="1" lang="it-IT" sz="3600" spc="-1" strike="noStrike">
                <a:solidFill>
                  <a:srgbClr val="ccff99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70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1. Progress Report “ordinario“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AR, FR corredato da tutte le Certificazioni di spesa,  I&amp;P Repor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2. Final Project Report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Final AR, Final FR, Questionario e tutte le pubblicazioni prodot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ff99"/>
                </a:solidFill>
                <a:latin typeface="Arial"/>
              </a:rPr>
              <a:t>Il Final Report </a:t>
            </a:r>
            <a:r>
              <a:rPr b="1" lang="it-IT" sz="4000" spc="-1" strike="noStrike">
                <a:solidFill>
                  <a:srgbClr val="ccff99"/>
                </a:solidFill>
                <a:latin typeface="Arial"/>
                <a:ea typeface="Arial"/>
              </a:rPr>
              <a:t>è composto da</a:t>
            </a:r>
            <a:r>
              <a:rPr b="1" lang="it-IT" sz="4000" spc="-1" strike="noStrike">
                <a:solidFill>
                  <a:srgbClr val="ccff99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70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. Progress Report “ordinario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pre 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‘ultimo periodo di attuazione del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rende tutte le spese del perio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N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e Certificazioni di spesa presentate dopo la scadenza non verranno considerate ammissibi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dopo la chiusura del Report, nessuna ulteriore richiesta di pagamento pu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ò essere accettata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. Contattare il Controllo di primo livello per ulteriori informaz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ff99"/>
                </a:solidFill>
                <a:latin typeface="Arial"/>
              </a:rPr>
              <a:t>Il Final Report </a:t>
            </a:r>
            <a:r>
              <a:rPr b="1" lang="it-IT" sz="4000" spc="-1" strike="noStrike">
                <a:solidFill>
                  <a:srgbClr val="ccff99"/>
                </a:solidFill>
                <a:latin typeface="Arial"/>
                <a:ea typeface="Arial"/>
              </a:rPr>
              <a:t>è composto da</a:t>
            </a:r>
            <a:r>
              <a:rPr b="1" lang="it-IT" sz="4000" spc="-1" strike="noStrike">
                <a:solidFill>
                  <a:srgbClr val="ccff99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70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nal project repo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al Activity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al Financial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ionario legato alla Misura nel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‘ambito della quale il progetto è stato approva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bblicazioni (copia cartacea + ZIP fi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ff99"/>
                </a:solidFill>
                <a:latin typeface="Arial"/>
              </a:rPr>
              <a:t>Il Final Activity Report...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70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iene i seguenti tre capitol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mmario sull´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ttuazione del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0 pagine (aspetti tecnici e contenutistic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i prega di seguire le domande gui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isione d´insieme sulle attivit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à, realizzazioni e risult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st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risultat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pubblicazion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subappalti (&gt; 10 000€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incontri e workshop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transna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infrastrutture (documentazione fotografi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ff99"/>
                </a:solidFill>
                <a:latin typeface="Arial"/>
              </a:rPr>
              <a:t>Il Final Financial Report…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70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..va riferito alle spese effettivament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osten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ESR – usare le informazioni contenute nei fogl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nformation on Payme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viati dall´AdG + sommare il FESR richiesto nell´ultimo F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anziamento – Distinguere le fonti di finanziamento nazionale (privato - pubblic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ndi pubblici – indicare il livello: Nazionale/ Regionale/ Lo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aso di dubbi o domande, contattare gli N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ff99"/>
                </a:solidFill>
                <a:latin typeface="Arial"/>
              </a:rPr>
              <a:t>Il Questionario di Misura: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70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are la tabella della Misura nel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‘ambito della quale il progetto è stato approva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redici domand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identificare e quantificare le realizzazioni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, i risultati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e gli impatti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mpact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delle attivi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à svolte nell´ambito del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i indicatori son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ssenzi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la predisposizione de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apporto annuale di esecu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 Programma spedito alla Commiss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aso di dubbi o domande, contattate il vostro PO (S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ff99"/>
                </a:solidFill>
                <a:latin typeface="Arial"/>
              </a:rPr>
              <a:t>In breve:</a:t>
            </a:r>
            <a:endParaRPr b="1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537080"/>
          </a:xfrm>
          <a:prstGeom prst="rect">
            <a:avLst/>
          </a:prstGeom>
          <a:solidFill>
            <a:srgbClr val="f3fea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È important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Rispettare le scadenze !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Inviare il 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Final report package 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completo (ultimo PR + Final Report + Certificazioni di spesa + ZIP risultati finali del progetto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1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al STC in versione elettronic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1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all´AdG tramite posta versione cartacea firmata e timbrat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Se sono necessarie correzioni dopo la verifica del STC, la versione cartacea rivista (firmata e timbrata) corredata di Dichiarazione Fina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1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  <a:ea typeface="Arial"/>
              </a:rPr>
              <a:t>va spedita tramite posta all´AdG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4:29:48Z</dcterms:created>
  <dc:creator>Magdalena Maislinger</dc:creator>
  <dc:description/>
  <dc:language>en-US</dc:language>
  <cp:lastModifiedBy>seubuu14</cp:lastModifiedBy>
  <cp:lastPrinted>2002-11-11T17:47:29Z</cp:lastPrinted>
  <dcterms:modified xsi:type="dcterms:W3CDTF">2007-03-19T11:44:15Z</dcterms:modified>
  <cp:revision>178</cp:revision>
  <dc:subject/>
  <dc:title>How to run a project 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355498</vt:r8>
  </property>
  <property fmtid="{D5CDD505-2E9C-101B-9397-08002B2CF9AE}" pid="3" name="_AuthorEmail">
    <vt:lpwstr>cblanc@cr-rhone-alpes.fr</vt:lpwstr>
  </property>
  <property fmtid="{D5CDD505-2E9C-101B-9397-08002B2CF9AE}" pid="4" name="_AuthorEmailDisplayName">
    <vt:lpwstr>DPCO BLANC Catherine</vt:lpwstr>
  </property>
  <property fmtid="{D5CDD505-2E9C-101B-9397-08002B2CF9AE}" pid="5" name="_EmailSubject">
    <vt:lpwstr>Antwort: Alplakes - kick-off meeting</vt:lpwstr>
  </property>
  <property fmtid="{D5CDD505-2E9C-101B-9397-08002B2CF9AE}" pid="6" name="_PreviousAdHocReviewCycleID">
    <vt:r8>-20131654</vt:r8>
  </property>
  <property fmtid="{D5CDD505-2E9C-101B-9397-08002B2CF9AE}" pid="7" name="_ReviewingToolsShownOnce">
    <vt:lpwstr/>
  </property>
</Properties>
</file>